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6.png" ContentType="image/png"/>
  <Override PartName="/ppt/media/image3.gif" ContentType="image/gif"/>
  <Override PartName="/ppt/media/image5.wmf" ContentType="image/x-wmf"/>
  <Override PartName="/ppt/media/image10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wmf" ContentType="image/x-wmf"/>
  <Override PartName="/ppt/media/image21.jpeg" ContentType="image/jpeg"/>
  <Override PartName="/ppt/media/image1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1.wmf" ContentType="image/x-wmf"/>
  <Override PartName="/ppt/media/image26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8A05-15F6-494C-8B30-56CD167567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26AC-7661-4C44-8D1E-BAD220143C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93DB-A468-42A9-B348-8C262EB16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2033-2EA4-4032-B04C-18EAD65FC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2D40-ABF6-4302-80DF-0DC2C26863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7B0C-C379-4BFB-83B1-98DFB1D56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5E32-BDA3-4AC7-B0EA-8ABE31134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58A2-E0A2-4689-8F55-897B518A2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C59B-E338-4F77-8B1C-D90B97CBF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53AD-A938-44B1-9431-689828E56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 2020 establishes headline targets to be achieved at EU level by 202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Member State fixes national targets to contribute to the overall EU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wo headline targets in the field of education and training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To reduce the overall rate of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arly School Leav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Percentage of the population aged 18-24 with at most lower secondary education and not in further education or training) to below 10% (from 14.4% in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To raise the proportion of 30-34 year olds in the EU with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education or equivalent qualif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o 40% (from 32.3% in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2E33-5071-4AB9-A15F-59DD9B3FA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4400" y="770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22320" y="4735080"/>
            <a:ext cx="495288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0000"/>
                </a:solidFill>
                <a:latin typeface="Times New Roman"/>
              </a:rPr>
              <a:t>Lack of system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op-down policies not close to users &amp; practiti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Lack of brokerage mechanisms to policy m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Lack of evidence-base for policy m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Small scale, grass roots initi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Short-term - lack of sustainability/sca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No cross-sector dimension / no transf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No whole systems integration &amp;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8CDB-C6A1-4D3E-810E-D1258E4837DE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78C7-C3D1-4439-8489-DEAE718C9D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C150-9BB1-4832-9B24-979FDAC76C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5595-C12B-4229-9D0F-4C40EC8038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ijdelijke aanduiding voor dianumm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B792-A219-43EB-AB50-A1B4259E9B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18F9-4B1B-47FE-AD18-F35B0FD9A7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FA37-92E6-4314-A754-B4969AC0A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0C5A-7F90-40A6-BBF1-F416D38BA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5C49-D3A1-4694-9E59-4B028AFCB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0920-3016-401B-8F19-10E39B36E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6A955-4F93-47AF-B960-6694F1D2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6AD0F-FBF7-447E-A37D-F4E1C71B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BA049-A84F-4F3A-80DF-5EDEE7B5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21543-168A-4B07-A170-04747485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65B9B-D40B-4D10-AEF9-E8A3ECCA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286920"/>
            <a:ext cx="6912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43BF0-EED5-4B48-9E02-52B693BE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4C469-CE0C-4ADE-BC51-82F5CF43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4405-DC78-4F9D-8CE8-A4B3562D5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5D5BC-57BF-483D-B3A4-4D32701B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8B30B-BBE0-4117-BB78-01013C2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8B44A-75B8-4085-95BA-6C5BED4F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15D96-B58D-4517-AE9B-7F1F1BA2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2D71C-AABD-4D53-B14D-E5ABB7FB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917A-536F-4C38-A61F-DDCC59B5D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DE25-CB3C-4A67-9C2B-63B6DAFF8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868A-EA8D-48CD-99CA-2643FCAE3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286920"/>
            <a:ext cx="6912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5FBF-D19B-4E81-85F4-F48F956F4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BFBD-147C-49B9-B1A0-3DCE87F7B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C41A-BB6D-4145-A69B-9FDF75EBD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9366-A658-4E2F-893C-F2FD2557B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PT-Innen_EaT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10480" y="5790960"/>
            <a:ext cx="533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A853-199A-44EE-9428-95BF65E22B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PPT-Titel_EaT"/>
          <p:cNvPicPr/>
          <p:nvPr/>
        </p:nvPicPr>
        <p:blipFill>
          <a:blip r:embed="rId2"/>
          <a:srcRect l="0" t="15554" r="0" b="28908"/>
          <a:stretch/>
        </p:blipFill>
        <p:spPr>
          <a:xfrm>
            <a:off x="0" y="1905120"/>
            <a:ext cx="9145440" cy="38098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PPT-Titel_EaT"/>
          <p:cNvPicPr/>
          <p:nvPr/>
        </p:nvPicPr>
        <p:blipFill>
          <a:blip r:embed="rId3"/>
          <a:srcRect l="0" t="0" r="0" b="83344"/>
          <a:stretch/>
        </p:blipFill>
        <p:spPr>
          <a:xfrm>
            <a:off x="-1440" y="0"/>
            <a:ext cx="914544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 February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Reijo Aholainen, ICT Forum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B049-35BB-4DBE-995D-C18AEB92C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hyperlink" Target="http://www.elearningpapers.eu/index.php?page=home&amp;vol=2" TargetMode="External"/><Relationship Id="rId4" Type="http://schemas.openxmlformats.org/officeDocument/2006/relationships/hyperlink" Target="http://www.elearningpapers.eu/index.php?page=home&amp;vol=2" TargetMode="External"/><Relationship Id="rId5" Type="http://schemas.openxmlformats.org/officeDocument/2006/relationships/hyperlink" Target="http://www.elearningpapers.eu/index.php?page=home&amp;vol=2" TargetMode="External"/><Relationship Id="rId6" Type="http://schemas.openxmlformats.org/officeDocument/2006/relationships/hyperlink" Target="http://www.elearningpapers.eu/index.php?page=home&amp;vol=2" TargetMode="External"/><Relationship Id="rId7" Type="http://schemas.openxmlformats.org/officeDocument/2006/relationships/hyperlink" Target="http://www.elearningpapers.eu/index.php?page=home&amp;vol=2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eacea.ec.europa.eu/static/en/llp/index_en.htm" TargetMode="External"/><Relationship Id="rId2" Type="http://schemas.openxmlformats.org/officeDocument/2006/relationships/hyperlink" Target="http://eacea.ec.europa.eu/static/en/llp/index_en.htm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6.png"/><Relationship Id="rId5" Type="http://schemas.openxmlformats.org/officeDocument/2006/relationships/hyperlink" Target="http://ec.europa.eu/dgs/education_culture/index_en.html" TargetMode="External"/><Relationship Id="rId6" Type="http://schemas.openxmlformats.org/officeDocument/2006/relationships/hyperlink" Target="http://ec.europa.eu/dgs/education_culture/index_en.html" TargetMode="External"/><Relationship Id="rId7" Type="http://schemas.openxmlformats.org/officeDocument/2006/relationships/image" Target="../media/image27.wmf"/><Relationship Id="rId8" Type="http://schemas.openxmlformats.org/officeDocument/2006/relationships/hyperlink" Target="mailto:Godelieve.van-den-brande@ec.europa.eu" TargetMode="External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eacea.ec.europa.eu/static/en/llp/index_en.htm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hyperlink" Target="http://ec.europa.eu/dgs/education_culture/index_en.html" TargetMode="External"/><Relationship Id="rId5" Type="http://schemas.openxmlformats.org/officeDocument/2006/relationships/hyperlink" Target="http://eacea.ec.europa.eu/index.htm" TargetMode="External"/><Relationship Id="rId6" Type="http://schemas.openxmlformats.org/officeDocument/2006/relationships/image" Target="../media/image27.wmf"/><Relationship Id="rId7" Type="http://schemas.openxmlformats.org/officeDocument/2006/relationships/hyperlink" Target="mailto:eacea-info@ec.europa.eu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42920" y="4276800"/>
            <a:ext cx="76834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 future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ieve Van den Brande, European Commission,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DG Education and Cultur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ahoma"/>
              </a:rPr>
              <a:t>Contact: godelieve.van-den-brande@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38080" y="1841400"/>
            <a:ext cx="8018640" cy="1800360"/>
            <a:chOff x="838080" y="1841400"/>
            <a:chExt cx="8018640" cy="1800360"/>
          </a:xfrm>
        </p:grpSpPr>
        <p:sp>
          <p:nvSpPr>
            <p:cNvPr id="92" name="Rectangle 4"/>
            <p:cNvSpPr/>
            <p:nvPr/>
          </p:nvSpPr>
          <p:spPr>
            <a:xfrm>
              <a:off x="838080" y="1841400"/>
              <a:ext cx="2519640" cy="180036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3594240" y="1841400"/>
              <a:ext cx="2519280" cy="180036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6337440" y="1841400"/>
              <a:ext cx="2519280" cy="180036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7" descr="J0297070"/>
          <p:cNvPicPr/>
          <p:nvPr/>
        </p:nvPicPr>
        <p:blipFill>
          <a:blip r:embed="rId1"/>
          <a:stretch/>
        </p:blipFill>
        <p:spPr>
          <a:xfrm>
            <a:off x="6877080" y="2133720"/>
            <a:ext cx="1370160" cy="107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646"/>
          <p:cNvPicPr/>
          <p:nvPr/>
        </p:nvPicPr>
        <p:blipFill>
          <a:blip r:embed="rId2"/>
          <a:stretch/>
        </p:blipFill>
        <p:spPr>
          <a:xfrm>
            <a:off x="1477800" y="2349360"/>
            <a:ext cx="1235160" cy="911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33018"/>
          <p:cNvPicPr/>
          <p:nvPr/>
        </p:nvPicPr>
        <p:blipFill>
          <a:blip r:embed="rId3"/>
          <a:stretch/>
        </p:blipFill>
        <p:spPr>
          <a:xfrm>
            <a:off x="4356000" y="2133720"/>
            <a:ext cx="10922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sed learning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93" name="Rectangle 4"/>
          <p:cNvGraphicFramePr/>
          <p:nvPr/>
        </p:nvGraphicFramePr>
        <p:xfrm>
          <a:off x="650880" y="981000"/>
          <a:ext cx="810900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981000"/>
                    <a:ext cx="810900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8161200" y="1268280"/>
            <a:ext cx="4525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840" rIns="33840" tIns="16920" bIns="1692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2480" y="6381720"/>
            <a:ext cx="8826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T “can” favour personalisation and learner-centr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98" name="Rectangle 4"/>
          <p:cNvGraphicFramePr/>
          <p:nvPr/>
        </p:nvGraphicFramePr>
        <p:xfrm>
          <a:off x="716040" y="1268280"/>
          <a:ext cx="7977240" cy="47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268280"/>
                    <a:ext cx="7977240" cy="4726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914480" y="6265800"/>
            <a:ext cx="93567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importance of self-regulat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1447920" y="1197000"/>
            <a:ext cx="82422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Significant change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we lear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we lear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we learn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n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we lea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7520" y="4365720"/>
            <a:ext cx="824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wards educational transformation in a digital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progress is slow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699999988079071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197000"/>
            <a:ext cx="9144000" cy="55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840" rIns="33840" tIns="16920" bIns="1692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ICT is embedded in a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traditional learning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paradig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real potential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of ICT to make learning more innovative, creative, relevant and interesting is not being realised within formal E&amp;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While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emerging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in other areas, for exampl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Mobiles for L2L of 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Digital games for excluded youth and early school drop outs (E.g. Notschool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Telecentres for digital competence and entrepeneu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Informal language learning via social media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Lots of innovative ICT projects in Europe but do not reach beyond “early adopter stage”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We need to scale-up, learn from each other, be clear on visions, goals and outcomes, and we need to act NOW…”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(Digital Agenda Assembly, 16 June, BX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04840" y="204840"/>
            <a:ext cx="5758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problem…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CT and education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2349360"/>
            <a:ext cx="3970080" cy="25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U suppor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CCCE-9483-4FF3-8A25-D7BDBC8E97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DEF flag-logoeac-LLP_EN"/>
          <p:cNvPicPr/>
          <p:nvPr/>
        </p:nvPicPr>
        <p:blipFill>
          <a:blip r:embed="rId1"/>
          <a:stretch/>
        </p:blipFill>
        <p:spPr>
          <a:xfrm>
            <a:off x="4788000" y="2637000"/>
            <a:ext cx="28051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cc"/>
                </a:solidFill>
                <a:latin typeface="Arial"/>
              </a:rPr>
              <a:t>EU support</a:t>
            </a:r>
            <a:br>
              <a:rPr sz="2000"/>
            </a:b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ICT in education and training programme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8522-C671-4BD1-9ED7-CBEDA4005E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16000" y="2997360"/>
            <a:ext cx="7488360" cy="1191240"/>
            <a:chOff x="1116000" y="2997360"/>
            <a:chExt cx="7488360" cy="1191240"/>
          </a:xfrm>
        </p:grpSpPr>
        <p:sp>
          <p:nvSpPr>
            <p:cNvPr id="212" name="Text Box 4"/>
            <p:cNvSpPr/>
            <p:nvPr/>
          </p:nvSpPr>
          <p:spPr>
            <a:xfrm>
              <a:off x="3203640" y="2997360"/>
              <a:ext cx="54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"/>
                </a:rPr>
                <a:t>Improving the quality and accessibility of European education and training systems through the effective use of information and communication technologies (I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3" name="Object 5"/>
            <p:cNvGraphicFramePr/>
            <p:nvPr/>
          </p:nvGraphicFramePr>
          <p:xfrm>
            <a:off x="1116000" y="3141720"/>
            <a:ext cx="1943280" cy="38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3141720"/>
                      <a:ext cx="194328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Text Box 6"/>
            <p:cNvSpPr/>
            <p:nvPr/>
          </p:nvSpPr>
          <p:spPr>
            <a:xfrm>
              <a:off x="2029320" y="35733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4-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"/>
          <p:cNvGrpSpPr/>
          <p:nvPr/>
        </p:nvGrpSpPr>
        <p:grpSpPr>
          <a:xfrm>
            <a:off x="1258920" y="4437000"/>
            <a:ext cx="7200720" cy="1191240"/>
            <a:chOff x="1258920" y="4437000"/>
            <a:chExt cx="7200720" cy="1191240"/>
          </a:xfrm>
        </p:grpSpPr>
        <p:pic>
          <p:nvPicPr>
            <p:cNvPr id="217" name="Picture 8" descr="DEF flag-logoeac-LLP_EN"/>
            <p:cNvPicPr/>
            <p:nvPr/>
          </p:nvPicPr>
          <p:blipFill>
            <a:blip r:embed="rId3"/>
            <a:stretch/>
          </p:blipFill>
          <p:spPr>
            <a:xfrm>
              <a:off x="1258920" y="4510080"/>
              <a:ext cx="17287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9"/>
            <p:cNvSpPr/>
            <p:nvPr/>
          </p:nvSpPr>
          <p:spPr>
            <a:xfrm>
              <a:off x="3203640" y="4437000"/>
              <a:ext cx="52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TimesNewRoman"/>
                </a:rPr>
                <a:t>Specific objectives include:</a:t>
              </a:r>
              <a:br>
                <a:rPr sz="1800"/>
              </a:br>
              <a:r>
                <a:rPr b="0" lang="en-US" sz="1800" spc="-1" strike="noStrike">
                  <a:solidFill>
                    <a:srgbClr val="006699"/>
                  </a:solidFill>
                  <a:latin typeface="TimesNewRoman"/>
                </a:rPr>
                <a:t>to support the development of innovative ICT-based content, services, pedagogies and practice for lifelong 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0"/>
            <p:cNvSpPr/>
            <p:nvPr/>
          </p:nvSpPr>
          <p:spPr>
            <a:xfrm>
              <a:off x="2029320" y="52293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7-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1550520" y="1484280"/>
            <a:ext cx="7269480" cy="1243800"/>
            <a:chOff x="1550520" y="1484280"/>
            <a:chExt cx="7269480" cy="1243800"/>
          </a:xfrm>
        </p:grpSpPr>
        <p:pic>
          <p:nvPicPr>
            <p:cNvPr id="221" name="Picture 12" descr="eLearningActPlan-mg2"/>
            <p:cNvPicPr/>
            <p:nvPr/>
          </p:nvPicPr>
          <p:blipFill>
            <a:blip r:embed="rId4"/>
            <a:srcRect l="0" t="0" r="51264" b="0"/>
            <a:stretch/>
          </p:blipFill>
          <p:spPr>
            <a:xfrm>
              <a:off x="2484360" y="1557360"/>
              <a:ext cx="5698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/>
            <p:cNvSpPr/>
            <p:nvPr/>
          </p:nvSpPr>
          <p:spPr>
            <a:xfrm>
              <a:off x="1550520" y="1560600"/>
              <a:ext cx="91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Miner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ocr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4"/>
            <p:cNvSpPr/>
            <p:nvPr/>
          </p:nvSpPr>
          <p:spPr>
            <a:xfrm>
              <a:off x="3203640" y="1484280"/>
              <a:ext cx="56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"/>
                </a:rPr>
                <a:t>Promote European cooperation in the field of </a:t>
              </a:r>
              <a:br>
                <a:rPr sz="1800"/>
              </a:br>
              <a:r>
                <a:rPr b="0" lang="en-US" sz="1800" spc="-1" strike="noStrike">
                  <a:solidFill>
                    <a:srgbClr val="006699"/>
                  </a:solidFill>
                  <a:latin typeface="Arial"/>
                </a:rPr>
                <a:t>Open and Distance Learning (ODL) and </a:t>
              </a:r>
              <a:br>
                <a:rPr sz="1800"/>
              </a:br>
              <a:r>
                <a:rPr b="0" lang="en-US" sz="1800" spc="-1" strike="noStrike">
                  <a:solidFill>
                    <a:srgbClr val="006699"/>
                  </a:solidFill>
                  <a:latin typeface="Arial"/>
                </a:rPr>
                <a:t>Information and Communication Technology (ICT) </a:t>
              </a:r>
              <a:br>
                <a:rPr sz="1800"/>
              </a:br>
              <a:r>
                <a:rPr b="0" lang="en-US" sz="1800" spc="-1" strike="noStrike">
                  <a:solidFill>
                    <a:srgbClr val="006699"/>
                  </a:solidFill>
                  <a:latin typeface="Arial"/>
                </a:rPr>
                <a:t>in educ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5"/>
            <p:cNvSpPr/>
            <p:nvPr/>
          </p:nvSpPr>
          <p:spPr>
            <a:xfrm>
              <a:off x="2029320" y="242100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-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Arial"/>
              </a:rPr>
              <a:t>EU support</a:t>
            </a:r>
            <a:br>
              <a:rPr sz="2000"/>
            </a:b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Comenius: eTwinning for school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3640" y="1267920"/>
            <a:ext cx="4105080" cy="401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upport for online partnerships between two or more European primary or secondary schools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lexible, teacher friendly scheme to mainstream pedagogical use of ICT and support professional development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Mainly based on joint pedagogical projects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ncreasing use of online Communities of Practice for teachers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Quality label for good practice examples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9A2E-8467-459E-A7FF-F5AC86BEBB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388480" y="537372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etwinning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etwinningnet"/>
          <p:cNvPicPr/>
          <p:nvPr/>
        </p:nvPicPr>
        <p:blipFill>
          <a:blip r:embed="rId1"/>
          <a:srcRect l="13125" t="0" r="13125" b="0"/>
          <a:stretch/>
        </p:blipFill>
        <p:spPr>
          <a:xfrm>
            <a:off x="5291280" y="1238400"/>
            <a:ext cx="3421080" cy="404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2"/>
          <a:stretch/>
        </p:blipFill>
        <p:spPr>
          <a:xfrm>
            <a:off x="3971880" y="5092560"/>
            <a:ext cx="424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cc"/>
                </a:solidFill>
                <a:latin typeface="Arial"/>
              </a:rPr>
              <a:t>EU support</a:t>
            </a:r>
            <a:br>
              <a:rPr sz="2000"/>
            </a:b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e eLearning Porta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3640" y="1267920"/>
            <a:ext cx="4105080" cy="401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Supporting the exchange of ideas, good practice and resources in elearning across Europe and the world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Open to everyone, everywhere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Funded by the Lifelong Learning Programme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3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B7F0-36F1-4677-8C68-176B74FB43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elearningeuropa"/>
          <p:cNvPicPr/>
          <p:nvPr/>
        </p:nvPicPr>
        <p:blipFill>
          <a:blip r:embed="rId1"/>
          <a:srcRect l="0" t="0" r="0" b="5652"/>
          <a:stretch/>
        </p:blipFill>
        <p:spPr>
          <a:xfrm>
            <a:off x="5289480" y="1203480"/>
            <a:ext cx="3436920" cy="41558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5389560" y="537372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learningeuropa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179280" y="3860640"/>
            <a:ext cx="5038560" cy="1834560"/>
            <a:chOff x="179280" y="3860640"/>
            <a:chExt cx="5038560" cy="1834560"/>
          </a:xfrm>
        </p:grpSpPr>
        <p:pic>
          <p:nvPicPr>
            <p:cNvPr id="237" name="Picture 7" descr=""/>
            <p:cNvPicPr/>
            <p:nvPr/>
          </p:nvPicPr>
          <p:blipFill>
            <a:blip r:embed="rId2"/>
            <a:stretch/>
          </p:blipFill>
          <p:spPr>
            <a:xfrm>
              <a:off x="320400" y="4427280"/>
              <a:ext cx="27097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8"/>
            <p:cNvSpPr/>
            <p:nvPr/>
          </p:nvSpPr>
          <p:spPr>
            <a:xfrm>
              <a:off x="246960" y="3989160"/>
              <a:ext cx="289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arning Papers n° 2 (2007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207720" y="5175000"/>
              <a:ext cx="4978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http://</a:t>
              </a:r>
              <a:r>
                <a:rPr b="0" lang="en-GB" sz="14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www.elearningpapers.eu/index.php?page</a:t>
              </a:r>
              <a:r>
                <a:rPr b="0" lang="en-GB" sz="14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=</a:t>
              </a:r>
              <a:r>
                <a:rPr b="0" lang="en-GB" sz="14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home&amp;vol</a:t>
              </a:r>
              <a:r>
                <a:rPr b="0" lang="en-GB" sz="14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=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179280" y="3860640"/>
              <a:ext cx="5038560" cy="18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63272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66cc"/>
                </a:solidFill>
                <a:latin typeface="Arial"/>
              </a:rPr>
              <a:t>Studies at DG EAC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79280" y="1197000"/>
            <a:ext cx="8748720" cy="522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arning 2.0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IPTS, 2008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ew learning communities through ICT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IPTS, 2009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resight - Future of learning (incl.ICT) 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(IPTS, 2011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uropean-wide comparison of the use and impact of ICT on school education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STEPS -2009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velopment of methodologies for ICT indicators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2009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enchmarking study by DG INFSO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2012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Key data on Learning and Innovation through the use of ICT in Europe 2011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EURIDYCE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E751-543D-434A-ACD8-AC93EAC22C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CT and education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99640" y="2919240"/>
            <a:ext cx="4824360" cy="25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d next …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E234-D9E5-4A10-8D6A-C40336688E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DEF flag-logoeac-LLP_EN"/>
          <p:cNvPicPr/>
          <p:nvPr/>
        </p:nvPicPr>
        <p:blipFill>
          <a:blip r:embed="rId1"/>
          <a:stretch/>
        </p:blipFill>
        <p:spPr>
          <a:xfrm>
            <a:off x="5364000" y="1484280"/>
            <a:ext cx="2805120" cy="11365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1371600" y="4508640"/>
            <a:ext cx="777240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587600" y="4724280"/>
            <a:ext cx="7772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803240" y="4940280"/>
            <a:ext cx="777240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CT and education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1280" y="2204640"/>
            <a:ext cx="6446880" cy="25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licy context E&amp;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CBAA-850E-43FD-8BE9-B9DF4E266A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DEF flag-logoeac-LLP_EN"/>
          <p:cNvPicPr/>
          <p:nvPr/>
        </p:nvPicPr>
        <p:blipFill>
          <a:blip r:embed="rId1"/>
          <a:stretch/>
        </p:blipFill>
        <p:spPr>
          <a:xfrm>
            <a:off x="5364000" y="2421000"/>
            <a:ext cx="28051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7DFB-22F3-4878-AE94-E1A514D0B9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1658880"/>
          </a:xfrm>
          <a:prstGeom prst="rect">
            <a:avLst/>
          </a:prstGeom>
          <a:solidFill>
            <a:srgbClr val="056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264960" y="939960"/>
            <a:ext cx="858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EU Polic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70000" y="1693800"/>
            <a:ext cx="89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felong Learning Programm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LLP) contributes t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trategies and initiativ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366840" y="3691080"/>
            <a:ext cx="3927240" cy="72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351000" y="4537080"/>
            <a:ext cx="5492520" cy="146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68360" y="374652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arly school le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gher education at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76280" y="4619520"/>
            <a:ext cx="495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king LLL and mobility a re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&amp;T quality and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ty, social cohesion,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tivity and 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5981760" y="2546280"/>
            <a:ext cx="2882880" cy="22464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119160" y="2247840"/>
            <a:ext cx="3425760" cy="1100160"/>
          </a:xfrm>
          <a:custGeom>
            <a:avLst/>
            <a:gdLst>
              <a:gd name="textAreaLeft" fmla="*/ 0 w 3425760"/>
              <a:gd name="textAreaRight" fmla="*/ 3426120 w 342576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876240" y="2516040"/>
            <a:ext cx="24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6e9b"/>
                </a:solidFill>
                <a:latin typeface="Arial"/>
              </a:rPr>
              <a:t>Europe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2"/>
          <p:cNvSpPr/>
          <p:nvPr/>
        </p:nvSpPr>
        <p:spPr>
          <a:xfrm>
            <a:off x="2620800" y="2241720"/>
            <a:ext cx="3426120" cy="1099800"/>
          </a:xfrm>
          <a:custGeom>
            <a:avLst/>
            <a:gdLst>
              <a:gd name="textAreaLeft" fmla="*/ 0 w 3426120"/>
              <a:gd name="textAreaRight" fmla="*/ 3426480 w 3426120"/>
              <a:gd name="textAreaTop" fmla="*/ 0 h 1099800"/>
              <a:gd name="textAreaBottom" fmla="*/ 1100160 h 109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949480" y="2525760"/>
            <a:ext cx="24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6e9b"/>
                </a:solidFill>
                <a:latin typeface="Arial"/>
              </a:rPr>
              <a:t>ET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1658880" y="3349800"/>
            <a:ext cx="0" cy="339480"/>
          </a:xfrm>
          <a:prstGeom prst="line">
            <a:avLst/>
          </a:prstGeom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4572000" y="3348000"/>
            <a:ext cx="0" cy="1208160"/>
          </a:xfrm>
          <a:prstGeom prst="line">
            <a:avLst/>
          </a:prstGeom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6262560" y="2525760"/>
            <a:ext cx="37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Flagships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Youth on the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ept.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261120" y="2944800"/>
            <a:ext cx="567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Digital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Agenda for</a:t>
            </a:r>
            <a:r>
              <a:rPr b="0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new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and</a:t>
            </a:r>
            <a:r>
              <a:rPr b="0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job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Nov.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912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A new policy agenda: Europe 2020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11280" y="1413000"/>
          <a:ext cx="8229600" cy="4535280"/>
        </p:xfrm>
        <a:graphic>
          <a:graphicData uri="http://schemas.openxmlformats.org/drawingml/2006/table">
            <a:tbl>
              <a:tblPr/>
              <a:tblGrid>
                <a:gridCol w="2808360"/>
                <a:gridCol w="2678040"/>
                <a:gridCol w="274320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rt Grow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inable Grow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lusive Grow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17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Inno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BE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Innovation Union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Climate, energy and mo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Resource efficient Europe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Employment and 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An agenda for new skills and jobs 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Youth on the move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Competi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An industrial policy for the globalisation era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Fighting pove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European platform against poverty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Digital soci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BE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A digital agenda for Europe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0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F3E1-922D-4025-97F1-F05EB3FE8C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912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Europe 2020 targets related to E&amp;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EBD5-4F6E-4FC1-AB2A-C68A167679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801720" y="3914640"/>
            <a:ext cx="7488360" cy="201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1268280"/>
            <a:ext cx="7920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158840" y="1808280"/>
            <a:ext cx="7632720" cy="29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School Le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 Education Attainment (Age 30-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092240" y="2222640"/>
          <a:ext cx="7343640" cy="154764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  <a:gridCol w="24480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 at m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AutoShape 22"/>
          <p:cNvSpPr/>
          <p:nvPr/>
        </p:nvSpPr>
        <p:spPr>
          <a:xfrm rot="710400">
            <a:off x="3611520" y="2978280"/>
            <a:ext cx="2016000" cy="485640"/>
          </a:xfrm>
          <a:prstGeom prst="rightArrow">
            <a:avLst>
              <a:gd name="adj1" fmla="val 50000"/>
              <a:gd name="adj2" fmla="val 1037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92240" y="4478400"/>
          <a:ext cx="7343640" cy="180648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  <a:gridCol w="244800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% at le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AutoShape 40"/>
          <p:cNvSpPr/>
          <p:nvPr/>
        </p:nvSpPr>
        <p:spPr>
          <a:xfrm rot="21054000">
            <a:off x="3684240" y="5146200"/>
            <a:ext cx="2016000" cy="486000"/>
          </a:xfrm>
          <a:prstGeom prst="rightArrow">
            <a:avLst>
              <a:gd name="adj1" fmla="val 50000"/>
              <a:gd name="adj2" fmla="val 103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1"/>
          <p:cNvSpPr/>
          <p:nvPr/>
        </p:nvSpPr>
        <p:spPr>
          <a:xfrm>
            <a:off x="264960" y="1098720"/>
            <a:ext cx="858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2"/>
          <p:cNvSpPr/>
          <p:nvPr/>
        </p:nvSpPr>
        <p:spPr>
          <a:xfrm>
            <a:off x="795240" y="1795320"/>
            <a:ext cx="7488360" cy="1916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Diagram 2"/>
          <p:cNvGrpSpPr/>
          <p:nvPr/>
        </p:nvGrpSpPr>
        <p:grpSpPr>
          <a:xfrm>
            <a:off x="1434960" y="1756440"/>
            <a:ext cx="6274080" cy="3054600"/>
            <a:chOff x="1434960" y="1756440"/>
            <a:chExt cx="6274080" cy="3054600"/>
          </a:xfrm>
        </p:grpSpPr>
        <p:sp>
          <p:nvSpPr>
            <p:cNvPr id="283" name="_s1028"/>
            <p:cNvSpPr/>
            <p:nvPr/>
          </p:nvSpPr>
          <p:spPr>
            <a:xfrm>
              <a:off x="3724200" y="2298960"/>
              <a:ext cx="1697040" cy="15512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029"/>
            <p:cNvSpPr/>
            <p:nvPr/>
          </p:nvSpPr>
          <p:spPr>
            <a:xfrm>
              <a:off x="3724200" y="1756440"/>
              <a:ext cx="1697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21b7d"/>
                  </a:solidFill>
                  <a:latin typeface="Arial"/>
                </a:rPr>
                <a:t>Quality &amp; effici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030"/>
            <p:cNvSpPr/>
            <p:nvPr/>
          </p:nvSpPr>
          <p:spPr>
            <a:xfrm>
              <a:off x="4282920" y="3184200"/>
              <a:ext cx="1697040" cy="15512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031"/>
            <p:cNvSpPr/>
            <p:nvPr/>
          </p:nvSpPr>
          <p:spPr>
            <a:xfrm>
              <a:off x="6012000" y="4423680"/>
              <a:ext cx="1697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21b7d"/>
                  </a:solidFill>
                  <a:latin typeface="Arial"/>
                </a:rPr>
                <a:t>Innovation &amp; creativity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032"/>
            <p:cNvSpPr/>
            <p:nvPr/>
          </p:nvSpPr>
          <p:spPr>
            <a:xfrm>
              <a:off x="3165480" y="3184200"/>
              <a:ext cx="1697040" cy="15512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033"/>
            <p:cNvSpPr/>
            <p:nvPr/>
          </p:nvSpPr>
          <p:spPr>
            <a:xfrm>
              <a:off x="1434960" y="4423680"/>
              <a:ext cx="1697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21b7d"/>
                  </a:solidFill>
                  <a:latin typeface="Arial"/>
                </a:rPr>
                <a:t>Equity &amp; citizen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5CF0-A4BE-4DB9-86F7-30FB04C5514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2559960" y="2852640"/>
            <a:ext cx="437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21b7d"/>
                </a:solidFill>
                <a:latin typeface="Arial"/>
              </a:rPr>
              <a:t>Lifelong learning + </a:t>
            </a:r>
            <a:br>
              <a:rPr sz="3600"/>
            </a:br>
            <a:r>
              <a:rPr b="1" i="1" lang="en-US" sz="3600" spc="-1" strike="noStrike">
                <a:solidFill>
                  <a:srgbClr val="021b7d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21b7d"/>
                </a:solidFill>
                <a:latin typeface="Arial"/>
              </a:rPr>
              <a:t>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01760" y="490680"/>
            <a:ext cx="7226280" cy="1131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Europe 2020 </a:t>
            </a:r>
            <a:r>
              <a:rPr b="1" lang="en-US" sz="2400" spc="-1" strike="noStrike">
                <a:solidFill>
                  <a:srgbClr val="0066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ET 2020 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Strategic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66cc"/>
                </a:solidFill>
                <a:latin typeface="Arial"/>
              </a:rPr>
              <a:t>Priorities under ET 2020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&amp;T have a unique role to play in enhancing the use of ICT for learning and should take up a leadership role.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Actions are oriented around 3 objectives to be tackled simultaneously: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1. Increasing digital competence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2. ICT and an enhancer of innovation of E&amp;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3. improving the e-skills of professional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3C90-C904-44B4-9894-1BFD635DF0B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1. Increasing digital competence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Development of better descriptors for digital competence as a complement to the Key Competences FW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Development of an ICT skills supplement to European Skills passpor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Development of better ‘measurements’ for the use and impact of ICT in education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Support to MS (see next)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Wingdings"/>
                <a:ea typeface="Wingdings"/>
              </a:rPr>
              <a:t></a:t>
            </a: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i="1" lang="nl-BE" sz="2800" spc="-1" strike="noStrike">
                <a:solidFill>
                  <a:srgbClr val="0066cc"/>
                </a:solidFill>
                <a:latin typeface="Arial"/>
              </a:rPr>
              <a:t>Communication 2012 – Rethinking skill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3BB6-A765-43CF-B067-C96290CCEF0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344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ICT and an enhancer of </a:t>
            </a:r>
            <a:br>
              <a:rPr sz="3200"/>
            </a:b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innovation of E&amp;T</a:t>
            </a:r>
            <a:br>
              <a:rPr sz="3200"/>
            </a:b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79280" y="1596960"/>
            <a:ext cx="878544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Support to MS for mainstreaming ICT in education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New Thematic Working Group under ET 2020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On ‘ICT and education’ (24 MS involved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Peer learning and sharing of practice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Policy handbook for policy maker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To design and support a European-wide initiative on ‘Creative Classrooms/ Creative Learning Environments’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Reinforcement of e-Twinning for other learning domain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8972-2619-4438-9DE9-A6BDFCBCBB9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Improving the e-skills of        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professional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Setting up of a multistakeholders platform-forum for ICT skills ( bridge worlds of education and work)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E-skills awareness week DG ENTR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(first week of March 2012)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3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29F8-E4CD-40AC-9DD8-BAB84763FE0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42920" y="2205000"/>
            <a:ext cx="7201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ive Classroo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an innovative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1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F690-83FE-4AB9-9E51-5E8C7B5F965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308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a91"/>
                </a:solidFill>
                <a:latin typeface="Times New Roman"/>
              </a:rPr>
              <a:t>The reality – implementation gap</a:t>
            </a:r>
            <a:r>
              <a:rPr b="0" lang="en-US" sz="3200" spc="-1" strike="noStrike">
                <a:solidFill>
                  <a:srgbClr val="343a9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593720"/>
            <a:ext cx="8229600" cy="37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cc"/>
                </a:solidFill>
                <a:latin typeface="Arial"/>
              </a:rPr>
              <a:t>While ICT is well mainstreamed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cc"/>
                </a:solidFill>
                <a:latin typeface="Arial"/>
              </a:rPr>
              <a:t>outside schools, formal E&amp;T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cc"/>
                </a:solidFill>
                <a:latin typeface="Arial"/>
              </a:rPr>
              <a:t>is only in its early adopter’s stage.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43a91"/>
                </a:solidFill>
                <a:latin typeface="Arial"/>
              </a:rPr>
              <a:t>Education can not stay behind these changes in an increasing networked and digital society.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A895-20EF-4A4C-A874-3EC9C075AE3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DSCF2763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5424480" y="155736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324000" y="422100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00"/>
                </a:solidFill>
                <a:latin typeface="Arial"/>
              </a:rPr>
              <a:t>The European Policy Framework</a:t>
            </a:r>
            <a:endParaRPr b="0" lang="en-US" sz="29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2319480" cy="3630600"/>
          </a:xfrm>
          <a:prstGeom prst="rect">
            <a:avLst/>
          </a:prstGeom>
          <a:ln w="0">
            <a:noFill/>
          </a:ln>
        </p:spPr>
      </p:pic>
      <p:sp>
        <p:nvSpPr>
          <p:cNvPr id="104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DD5-FD67-4B53-BDAE-E748502FE3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84320" y="1052640"/>
            <a:ext cx="5252760" cy="149436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Key Competences for Lifelong Learning,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2006/962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mother tongue; foreign languages; maths/science/technology; digital competence, learning to learn; social &amp; civic competences; entrepreneurship; cultural awareness &amp; expression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644920" y="2781360"/>
            <a:ext cx="3573360" cy="176868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trategic Framework for European Cooperation in E&amp;T,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COM(2008) 8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Lifelong learning and mo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Quality &amp; efficiency of E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Equity &amp; active citize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Innovation, creativity, entrepreneu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516720" y="5300640"/>
            <a:ext cx="2378160" cy="106740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SWP: The Use of ICT to support innovation and lifelong learning for all, SEC(2008) 2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8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2644920" y="4797360"/>
            <a:ext cx="367164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9"/>
          <p:cNvGrpSpPr/>
          <p:nvPr/>
        </p:nvGrpSpPr>
        <p:grpSpPr>
          <a:xfrm>
            <a:off x="6374880" y="2997360"/>
            <a:ext cx="2421000" cy="2239560"/>
            <a:chOff x="6374880" y="2997360"/>
            <a:chExt cx="2421000" cy="2239560"/>
          </a:xfrm>
        </p:grpSpPr>
        <p:grpSp>
          <p:nvGrpSpPr>
            <p:cNvPr id="111" name="Group 10"/>
            <p:cNvGrpSpPr/>
            <p:nvPr/>
          </p:nvGrpSpPr>
          <p:grpSpPr>
            <a:xfrm>
              <a:off x="6374880" y="2997360"/>
              <a:ext cx="2421000" cy="2239560"/>
              <a:chOff x="6374880" y="2997360"/>
              <a:chExt cx="2421000" cy="2239560"/>
            </a:xfrm>
          </p:grpSpPr>
          <p:sp>
            <p:nvSpPr>
              <p:cNvPr id="112" name="AutoShape 11"/>
              <p:cNvSpPr/>
              <p:nvPr/>
            </p:nvSpPr>
            <p:spPr>
              <a:xfrm>
                <a:off x="6516720" y="2997360"/>
                <a:ext cx="2158920" cy="1871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12"/>
              <p:cNvSpPr/>
              <p:nvPr/>
            </p:nvSpPr>
            <p:spPr>
              <a:xfrm>
                <a:off x="6978600" y="4868640"/>
                <a:ext cx="12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Edu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3"/>
              <p:cNvSpPr/>
              <p:nvPr/>
            </p:nvSpPr>
            <p:spPr>
              <a:xfrm rot="3648000">
                <a:off x="7561800" y="3606480"/>
                <a:ext cx="14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Innov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 rot="18015000">
                <a:off x="6229080" y="3719880"/>
                <a:ext cx="122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Researc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AutoShape 15"/>
            <p:cNvSpPr/>
            <p:nvPr/>
          </p:nvSpPr>
          <p:spPr>
            <a:xfrm>
              <a:off x="7237440" y="3951000"/>
              <a:ext cx="792000" cy="215640"/>
            </a:xfrm>
            <a:custGeom>
              <a:avLst/>
              <a:gdLst>
                <a:gd name="textAreaLeft" fmla="*/ 138600 w 792000"/>
                <a:gd name="textAreaRight" fmla="*/ 574200 w 792000"/>
                <a:gd name="textAreaTop" fmla="*/ 28800 h 215640"/>
                <a:gd name="textAreaBottom" fmla="*/ 1868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6"/>
            <p:cNvSpPr/>
            <p:nvPr/>
          </p:nvSpPr>
          <p:spPr>
            <a:xfrm flipH="1" flipV="1">
              <a:off x="7191360" y="4285440"/>
              <a:ext cx="792000" cy="215640"/>
            </a:xfrm>
            <a:custGeom>
              <a:avLst/>
              <a:gdLst>
                <a:gd name="textAreaLeft" fmla="*/ 138600 w 792000"/>
                <a:gd name="textAreaRight" fmla="*/ 574200 w 792000"/>
                <a:gd name="textAreaTop" fmla="*/ 28800 h 215640"/>
                <a:gd name="textAreaBottom" fmla="*/ 1868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4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DE26-15DD-4E87-9062-FD7457C5EE04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95280" y="692280"/>
            <a:ext cx="631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Shor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24000" y="1341360"/>
            <a:ext cx="770400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achers lack pedagogical strategies and experiences to effectively use I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fessional development of teachers lacks the pedagogical, innovation and practical dime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ssment of digital literacy is not widesp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jor lack of systematic impact in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ovations not enough supported by changes in pedag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crepancy between children’s under-use of ICT at school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equent and sophisticated use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4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969B-2E6C-4DFC-A2FE-EC2560B1D4B2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5508720" y="1268280"/>
            <a:ext cx="718920" cy="648000"/>
          </a:xfrm>
          <a:prstGeom prst="roundRect">
            <a:avLst>
              <a:gd name="adj" fmla="val 16667"/>
            </a:avLst>
          </a:prstGeom>
          <a:solidFill>
            <a:srgbClr val="044f70"/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4"/>
          <p:cNvSpPr/>
          <p:nvPr/>
        </p:nvSpPr>
        <p:spPr>
          <a:xfrm>
            <a:off x="324000" y="1268280"/>
            <a:ext cx="718920" cy="648000"/>
          </a:xfrm>
          <a:prstGeom prst="roundRect">
            <a:avLst>
              <a:gd name="adj" fmla="val 16667"/>
            </a:avLst>
          </a:prstGeom>
          <a:solidFill>
            <a:srgbClr val="044f70"/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1835280" y="260280"/>
            <a:ext cx="554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t s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105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6600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66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4f7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ahoma"/>
              </a:rPr>
              <a:t>The infrastructure to promote ICT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4f7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ahoma"/>
              </a:rPr>
              <a:t>Research base to guide the proces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Bottom-up initiatives (pilots,research, policies, action plans, …)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76720" y="1019160"/>
            <a:ext cx="38210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Arial Black"/>
              </a:rPr>
              <a:t>  –</a:t>
            </a: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No systemic integration and mainstreaming in formal education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3289320" y="474984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442764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1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0BB7-3DB2-4D38-A9D9-B3AFE057635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88640"/>
            <a:ext cx="8229600" cy="554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0000"/>
                </a:solidFill>
                <a:latin typeface="Arial"/>
              </a:rPr>
              <a:t>LACK OF  SYTEMIC IMPACT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Top-down policies not close to users and practitioner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Lack of brokerage mechanisms to policy maker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Lack of evidence-base for policy making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Small scale, grass roots initiative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Short-term - lack of sustainability/ scalability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No cross-sector dimension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Whole systems integration and leadership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C69B-B56E-4C17-9200-C88B12D22A9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557352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cc"/>
                </a:solidFill>
                <a:latin typeface="Arial"/>
              </a:rPr>
              <a:t>False assumption about</a:t>
            </a:r>
            <a:r>
              <a:rPr b="0" lang="fr-BE" sz="2000" spc="-1" strike="noStrike">
                <a:solidFill>
                  <a:srgbClr val="0066cc"/>
                </a:solidFill>
                <a:latin typeface="Arial"/>
              </a:rPr>
              <a:t> implementation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1773360"/>
            <a:ext cx="6696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re is a common assumption or conviction about the spread of best pract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First ste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: Elaboration of a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Second ste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: Implementation of the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Third ste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: Demonstration of the results of the best practice (conferences, marketing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Fourth ste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: Automatic spread of the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6624720" cy="43927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557352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cc"/>
                </a:solidFill>
                <a:latin typeface="Arial"/>
              </a:rPr>
              <a:t>False assumption about</a:t>
            </a:r>
            <a:r>
              <a:rPr b="0" lang="fr-BE" sz="2000" spc="-1" strike="noStrike">
                <a:solidFill>
                  <a:srgbClr val="0066cc"/>
                </a:solidFill>
                <a:latin typeface="Arial"/>
              </a:rPr>
              <a:t> implementation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6769080" cy="451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056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cc"/>
                </a:solidFill>
                <a:latin typeface="Arial"/>
              </a:rPr>
              <a:t>The real model of the spread of best practices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Diagram 10" descr=""/>
          <p:cNvPicPr/>
          <p:nvPr/>
        </p:nvPicPr>
        <p:blipFill>
          <a:blip r:embed="rId1"/>
          <a:stretch/>
        </p:blipFill>
        <p:spPr>
          <a:xfrm>
            <a:off x="1616040" y="2273400"/>
            <a:ext cx="7534440" cy="4591080"/>
          </a:xfrm>
          <a:prstGeom prst="rect">
            <a:avLst/>
          </a:prstGeom>
          <a:ln w="0">
            <a:noFill/>
          </a:ln>
        </p:spPr>
      </p:pic>
      <p:pic>
        <p:nvPicPr>
          <p:cNvPr id="332" name="Content Placeholder 3" descr=""/>
          <p:cNvPicPr/>
          <p:nvPr/>
        </p:nvPicPr>
        <p:blipFill>
          <a:blip r:embed="rId2"/>
          <a:stretch/>
        </p:blipFill>
        <p:spPr>
          <a:xfrm>
            <a:off x="281160" y="1189080"/>
            <a:ext cx="8581680" cy="5199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533088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cc"/>
                </a:solidFill>
                <a:latin typeface="Arial"/>
              </a:rPr>
              <a:t>The false assumption and the reality</a:t>
            </a:r>
            <a:br>
              <a:rPr sz="2400"/>
            </a:br>
            <a:r>
              <a:rPr b="1" lang="fr-BE" sz="1400" spc="-1" strike="noStrike">
                <a:solidFill>
                  <a:srgbClr val="0066cc"/>
                </a:solidFill>
                <a:latin typeface="Arial"/>
              </a:rPr>
              <a:t>(B. Magyar, 2011)</a:t>
            </a:r>
            <a:endParaRPr b="0" lang="en-US" sz="14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1915920" y="4723920"/>
            <a:ext cx="2440080" cy="1225800"/>
            <a:chOff x="1915920" y="4723920"/>
            <a:chExt cx="2440080" cy="1225800"/>
          </a:xfrm>
        </p:grpSpPr>
        <p:sp>
          <p:nvSpPr>
            <p:cNvPr id="335" name="Down Arrow 4"/>
            <p:cNvSpPr/>
            <p:nvPr/>
          </p:nvSpPr>
          <p:spPr>
            <a:xfrm rot="10800000">
              <a:off x="1915920" y="4723920"/>
              <a:ext cx="287640" cy="1225800"/>
            </a:xfrm>
            <a:prstGeom prst="downArrow">
              <a:avLst>
                <a:gd name="adj1" fmla="val 50000"/>
                <a:gd name="adj2" fmla="val 50133"/>
              </a:avLst>
            </a:pr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ular Callout 11"/>
            <p:cNvSpPr/>
            <p:nvPr/>
          </p:nvSpPr>
          <p:spPr>
            <a:xfrm>
              <a:off x="2556360" y="5006520"/>
              <a:ext cx="1799640" cy="721080"/>
            </a:xfrm>
            <a:prstGeom prst="wedgeRectCallout">
              <a:avLst>
                <a:gd name="adj1" fmla="val -73398"/>
                <a:gd name="adj2" fmla="val 7041"/>
              </a:avLst>
            </a:pr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fffff"/>
                  </a:solidFill>
                  <a:latin typeface="Calibri"/>
                </a:rPr>
                <a:t>Implementation of the pi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18"/>
          <p:cNvGrpSpPr/>
          <p:nvPr/>
        </p:nvGrpSpPr>
        <p:grpSpPr>
          <a:xfrm>
            <a:off x="6111720" y="2637000"/>
            <a:ext cx="2060640" cy="1269720"/>
            <a:chOff x="6111720" y="2637000"/>
            <a:chExt cx="2060640" cy="1269720"/>
          </a:xfrm>
        </p:grpSpPr>
        <p:sp>
          <p:nvSpPr>
            <p:cNvPr id="338" name="Down Arrow 5"/>
            <p:cNvSpPr/>
            <p:nvPr/>
          </p:nvSpPr>
          <p:spPr>
            <a:xfrm rot="10800000">
              <a:off x="7884360" y="2637000"/>
              <a:ext cx="288000" cy="121896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ular Callout 12"/>
            <p:cNvSpPr/>
            <p:nvPr/>
          </p:nvSpPr>
          <p:spPr>
            <a:xfrm>
              <a:off x="6111720" y="3079080"/>
              <a:ext cx="1512000" cy="827640"/>
            </a:xfrm>
            <a:prstGeom prst="wedgeRectCallout">
              <a:avLst>
                <a:gd name="adj1" fmla="val 70069"/>
                <a:gd name="adj2" fmla="val 15759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fffff"/>
                  </a:solidFill>
                  <a:latin typeface="Calibri"/>
                </a:rPr>
                <a:t>The unreached last m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0" name="Straight Arrow Connector 6"/>
          <p:cNvCxnSpPr/>
          <p:nvPr/>
        </p:nvCxnSpPr>
        <p:spPr>
          <a:xfrm flipV="1">
            <a:off x="250560" y="1196280"/>
            <a:ext cx="1080" cy="532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1" name="Straight Arrow Connector 8"/>
          <p:cNvCxnSpPr/>
          <p:nvPr/>
        </p:nvCxnSpPr>
        <p:spPr>
          <a:xfrm>
            <a:off x="250920" y="6524280"/>
            <a:ext cx="8425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42" name="TextBox 9" descr=""/>
          <p:cNvPicPr/>
          <p:nvPr/>
        </p:nvPicPr>
        <p:blipFill>
          <a:blip r:embed="rId3"/>
          <a:stretch/>
        </p:blipFill>
        <p:spPr>
          <a:xfrm>
            <a:off x="-12600" y="3029040"/>
            <a:ext cx="1098360" cy="15001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5"/>
          <p:cNvSpPr/>
          <p:nvPr/>
        </p:nvSpPr>
        <p:spPr>
          <a:xfrm>
            <a:off x="4211640" y="6516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ular Callout 13"/>
          <p:cNvSpPr/>
          <p:nvPr/>
        </p:nvSpPr>
        <p:spPr>
          <a:xfrm>
            <a:off x="7596360" y="4976640"/>
            <a:ext cx="1439640" cy="1189080"/>
          </a:xfrm>
          <a:prstGeom prst="wedgeRectCallout">
            <a:avLst>
              <a:gd name="adj1" fmla="val -70083"/>
              <a:gd name="adj2" fmla="val 78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Depreciation of the best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ijdelijke aanduiding voor dianummer 3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ECDB-D8FA-4253-AB9C-58C27018E7D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1658880"/>
          </a:xfrm>
          <a:prstGeom prst="rect">
            <a:avLst/>
          </a:prstGeom>
          <a:solidFill>
            <a:srgbClr val="056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264960" y="939960"/>
            <a:ext cx="858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EU Polic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70000" y="1693800"/>
            <a:ext cx="89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felong Learning Programm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LLP) contributes t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trategies and initiativ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366840" y="3691080"/>
            <a:ext cx="3927240" cy="72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351000" y="4537080"/>
            <a:ext cx="5492520" cy="146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468360" y="374652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arly school le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gher education at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476280" y="4619520"/>
            <a:ext cx="495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king LLL and mobility a re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&amp;T quality and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ty, social cohesion,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tivity and 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9"/>
          <p:cNvSpPr/>
          <p:nvPr/>
        </p:nvSpPr>
        <p:spPr>
          <a:xfrm>
            <a:off x="5994360" y="2776680"/>
            <a:ext cx="2882880" cy="22460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0"/>
          <p:cNvSpPr/>
          <p:nvPr/>
        </p:nvSpPr>
        <p:spPr>
          <a:xfrm>
            <a:off x="119160" y="2247840"/>
            <a:ext cx="3425760" cy="1100160"/>
          </a:xfrm>
          <a:custGeom>
            <a:avLst/>
            <a:gdLst>
              <a:gd name="textAreaLeft" fmla="*/ 0 w 3425760"/>
              <a:gd name="textAreaRight" fmla="*/ 3426120 w 342576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876240" y="2516040"/>
            <a:ext cx="24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6e9b"/>
                </a:solidFill>
                <a:latin typeface="Arial"/>
              </a:rPr>
              <a:t>Europe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2"/>
          <p:cNvSpPr/>
          <p:nvPr/>
        </p:nvSpPr>
        <p:spPr>
          <a:xfrm>
            <a:off x="2620800" y="2241720"/>
            <a:ext cx="3426120" cy="1099800"/>
          </a:xfrm>
          <a:custGeom>
            <a:avLst/>
            <a:gdLst>
              <a:gd name="textAreaLeft" fmla="*/ 0 w 3426120"/>
              <a:gd name="textAreaRight" fmla="*/ 3426480 w 3426120"/>
              <a:gd name="textAreaTop" fmla="*/ 0 h 1099800"/>
              <a:gd name="textAreaBottom" fmla="*/ 1100160 h 109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2949480" y="2525760"/>
            <a:ext cx="24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6e9b"/>
                </a:solidFill>
                <a:latin typeface="Arial"/>
              </a:rPr>
              <a:t>ET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1658880" y="3349800"/>
            <a:ext cx="0" cy="339480"/>
          </a:xfrm>
          <a:prstGeom prst="line">
            <a:avLst/>
          </a:prstGeom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4572000" y="3348000"/>
            <a:ext cx="0" cy="1208160"/>
          </a:xfrm>
          <a:prstGeom prst="line">
            <a:avLst/>
          </a:prstGeom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6262560" y="2525760"/>
            <a:ext cx="37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Flagships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Youth on the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ept.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6261120" y="2944800"/>
            <a:ext cx="567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Digital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Agenda for</a:t>
            </a:r>
            <a:r>
              <a:rPr b="0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new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and</a:t>
            </a:r>
            <a:r>
              <a:rPr b="0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job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Nov.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ijdelijke aanduiding voor dianummer 4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56C1-A024-4212-9143-0A214233A21E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8"/>
          <p:cNvSpPr/>
          <p:nvPr/>
        </p:nvSpPr>
        <p:spPr>
          <a:xfrm>
            <a:off x="2050920" y="4584600"/>
            <a:ext cx="4608720" cy="647640"/>
          </a:xfrm>
          <a:prstGeom prst="roundRect">
            <a:avLst>
              <a:gd name="adj" fmla="val 16667"/>
            </a:avLst>
          </a:prstGeom>
          <a:solidFill>
            <a:srgbClr val="044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24000" y="476280"/>
            <a:ext cx="777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s linked to Europe 2020 &amp; ET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268360" y="4724280"/>
            <a:ext cx="518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A:  Creative Classro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1187280" y="1413000"/>
            <a:ext cx="684216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ncreasing digital competence/ e-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CT enhancing innovation of E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upport to Member States to mainstream ICT use in educational policies an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4"/>
          <p:cNvSpPr/>
          <p:nvPr/>
        </p:nvSpPr>
        <p:spPr>
          <a:xfrm rot="5400000">
            <a:off x="3528720" y="3103560"/>
            <a:ext cx="1654200" cy="1152360"/>
          </a:xfrm>
          <a:custGeom>
            <a:avLst/>
            <a:gdLst>
              <a:gd name="textAreaLeft" fmla="*/ 258480 w 1654200"/>
              <a:gd name="textAreaRight" fmla="*/ 1447560 w 16542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866">
                  <a:alpha val="9019"/>
                </a:srgbClr>
              </a:gs>
              <a:gs pos="100000">
                <a:srgbClr val="044f7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9"/>
          <p:cNvSpPr/>
          <p:nvPr/>
        </p:nvSpPr>
        <p:spPr>
          <a:xfrm rot="5400000">
            <a:off x="5041440" y="3103560"/>
            <a:ext cx="1654200" cy="1152360"/>
          </a:xfrm>
          <a:custGeom>
            <a:avLst/>
            <a:gdLst>
              <a:gd name="textAreaLeft" fmla="*/ 258480 w 1654200"/>
              <a:gd name="textAreaRight" fmla="*/ 1447560 w 16542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866">
                  <a:alpha val="9019"/>
                </a:srgbClr>
              </a:gs>
              <a:gs pos="100000">
                <a:srgbClr val="044f7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0"/>
          <p:cNvSpPr/>
          <p:nvPr/>
        </p:nvSpPr>
        <p:spPr>
          <a:xfrm rot="5400000">
            <a:off x="1944360" y="3103560"/>
            <a:ext cx="1654200" cy="1152360"/>
          </a:xfrm>
          <a:custGeom>
            <a:avLst/>
            <a:gdLst>
              <a:gd name="textAreaLeft" fmla="*/ 258480 w 1654200"/>
              <a:gd name="textAreaRight" fmla="*/ 1447560 w 16542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866">
                  <a:alpha val="9019"/>
                </a:srgbClr>
              </a:gs>
              <a:gs pos="100000">
                <a:srgbClr val="044f7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 rot="19402200">
            <a:off x="5796000" y="3069720"/>
            <a:ext cx="485640" cy="1079640"/>
          </a:xfrm>
          <a:prstGeom prst="downArrow">
            <a:avLst>
              <a:gd name="adj1" fmla="val 50000"/>
              <a:gd name="adj2" fmla="val 55578"/>
            </a:avLst>
          </a:prstGeom>
          <a:gradFill rotWithShape="0">
            <a:gsLst>
              <a:gs pos="0">
                <a:srgbClr val="006699"/>
              </a:gs>
              <a:gs pos="100000">
                <a:srgbClr val="003366"/>
              </a:gs>
            </a:gsLst>
            <a:lin ang="75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8629800">
            <a:off x="3635280" y="2061720"/>
            <a:ext cx="486000" cy="1079640"/>
          </a:xfrm>
          <a:prstGeom prst="downArrow">
            <a:avLst>
              <a:gd name="adj1" fmla="val 50000"/>
              <a:gd name="adj2" fmla="val 55537"/>
            </a:avLst>
          </a:prstGeom>
          <a:gradFill rotWithShape="0">
            <a:gsLst>
              <a:gs pos="0">
                <a:srgbClr val="006699"/>
              </a:gs>
              <a:gs pos="100000">
                <a:srgbClr val="003366"/>
              </a:gs>
            </a:gsLst>
            <a:lin ang="183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758000">
            <a:off x="2816280" y="3292560"/>
            <a:ext cx="485640" cy="1079280"/>
          </a:xfrm>
          <a:prstGeom prst="downArrow">
            <a:avLst>
              <a:gd name="adj1" fmla="val 50000"/>
              <a:gd name="adj2" fmla="val 55560"/>
            </a:avLst>
          </a:prstGeom>
          <a:gradFill rotWithShape="0">
            <a:gsLst>
              <a:gs pos="0">
                <a:srgbClr val="006699"/>
              </a:gs>
              <a:gs pos="100000">
                <a:srgbClr val="003366"/>
              </a:gs>
            </a:gsLst>
            <a:lin ang="36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71640" y="2854440"/>
            <a:ext cx="3598920" cy="647640"/>
          </a:xfrm>
          <a:prstGeom prst="roundRect">
            <a:avLst>
              <a:gd name="adj" fmla="val 16667"/>
            </a:avLst>
          </a:prstGeom>
          <a:solidFill>
            <a:srgbClr val="044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87640" y="2925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ive Classro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8720" y="4365720"/>
            <a:ext cx="28796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00000" y="443880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term ‘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lassroo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 = all types of                learning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19280" y="907920"/>
            <a:ext cx="2879640" cy="122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9079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term ‘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re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 = innovation of learning and teaching process with the support of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35640" y="4078440"/>
            <a:ext cx="28796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08720" y="409716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what is possible in today’s practices with today’s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ICT cluster under OMC – ET2010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B292-4CF4-4505-8A79-411CDC923E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79280" y="14130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spcBef>
                <a:spcPts val="10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i="1" lang="en-US" sz="2000" spc="-1" strike="noStrike">
                <a:solidFill>
                  <a:srgbClr val="0099cc"/>
                </a:solidFill>
                <a:latin typeface="Arial"/>
              </a:rPr>
              <a:t>Representatives of 18 Ministries of Education of 18 Member States compiled key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132000" y="2060640"/>
          <a:ext cx="5830920" cy="1616040"/>
        </p:xfrm>
        <a:graphic>
          <a:graphicData uri="http://schemas.openxmlformats.org/drawingml/2006/table">
            <a:tbl>
              <a:tblPr/>
              <a:tblGrid>
                <a:gridCol w="5830920"/>
              </a:tblGrid>
              <a:tr h="1921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It is timely to move away from perceiving ICT diffusion and usage as a goal and instead see ICT as an enabler of teaching and learning.  It is not about ICT but about transformation …”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3" name="Rectangle 11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32360" y="4149720"/>
          <a:ext cx="3897360" cy="1616040"/>
        </p:xfrm>
        <a:graphic>
          <a:graphicData uri="http://schemas.openxmlformats.org/drawingml/2006/table">
            <a:tbl>
              <a:tblPr/>
              <a:tblGrid>
                <a:gridCol w="3897360"/>
              </a:tblGrid>
              <a:tr h="161604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8000"/>
                          </a:solidFill>
                          <a:latin typeface="Georgia"/>
                          <a:ea typeface="Times New Roman"/>
                        </a:rPr>
                        <a:t>“</a:t>
                      </a:r>
                      <a:r>
                        <a:rPr b="0" i="1" lang="en-US" sz="2000" spc="-1" strike="noStrike">
                          <a:solidFill>
                            <a:srgbClr val="008000"/>
                          </a:solidFill>
                          <a:latin typeface="Georgia"/>
                          <a:ea typeface="Times New Roman"/>
                        </a:rPr>
                        <a:t>The cluster has contributed to a fundamental change in discourse from accessibility to innovative learning through the support of ICT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18"/>
          <p:cNvSpPr/>
          <p:nvPr/>
        </p:nvSpPr>
        <p:spPr>
          <a:xfrm>
            <a:off x="0" y="3111480"/>
            <a:ext cx="9144000" cy="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3860640"/>
          <a:ext cx="3744720" cy="253080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283608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“</a:t>
                      </a: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The ICT cluster has influenced the development of improved indicators for measuring ICT use and impact. This has led to the first European-wide comparative study on the use and impact of ICT in school education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2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B2D7-AD6B-43D6-9832-0DA5C4D84A0C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9"/>
          <p:cNvSpPr/>
          <p:nvPr/>
        </p:nvSpPr>
        <p:spPr>
          <a:xfrm>
            <a:off x="3132000" y="1270080"/>
            <a:ext cx="6012000" cy="532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44f70">
                  <a:alpha val="70196"/>
                </a:srgbClr>
              </a:gs>
              <a:gs pos="100000">
                <a:srgbClr val="044b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loud"/>
          <p:cNvSpPr/>
          <p:nvPr/>
        </p:nvSpPr>
        <p:spPr>
          <a:xfrm rot="11217000">
            <a:off x="208800" y="620640"/>
            <a:ext cx="2994120" cy="2006640"/>
          </a:xfrm>
          <a:custGeom>
            <a:avLst/>
            <a:gdLst>
              <a:gd name="textAreaLeft" fmla="*/ 412560 w 2994120"/>
              <a:gd name="textAreaRight" fmla="*/ 2368800 w 2994120"/>
              <a:gd name="textAreaTop" fmla="*/ 302760 h 2006640"/>
              <a:gd name="textAreaBottom" fmla="*/ 1610640 h 2006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7686000"/>
          </a:gradFill>
          <a:ln w="3168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00"/>
          <p:cNvSpPr/>
          <p:nvPr/>
        </p:nvSpPr>
        <p:spPr>
          <a:xfrm rot="5400000">
            <a:off x="3216960" y="4814280"/>
            <a:ext cx="1943280" cy="614160"/>
          </a:xfrm>
          <a:custGeom>
            <a:avLst/>
            <a:gdLst>
              <a:gd name="textAreaLeft" fmla="*/ 303480 w 1943280"/>
              <a:gd name="textAreaRight" fmla="*/ 1700640 w 1943280"/>
              <a:gd name="textAreaTop" fmla="*/ 153360 h 614160"/>
              <a:gd name="textAreaBottom" fmla="*/ 460800 h 614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f70"/>
              </a:gs>
              <a:gs pos="100000">
                <a:srgbClr val="bbe0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611280" y="1052640"/>
            <a:ext cx="2520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Policy makers / Decision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e.g. Thematic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_s1028"/>
          <p:cNvSpPr/>
          <p:nvPr/>
        </p:nvSpPr>
        <p:spPr>
          <a:xfrm>
            <a:off x="3492360" y="1557360"/>
            <a:ext cx="1656000" cy="3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63"/>
          <p:cNvSpPr/>
          <p:nvPr/>
        </p:nvSpPr>
        <p:spPr>
          <a:xfrm>
            <a:off x="5292720" y="1125360"/>
            <a:ext cx="1871640" cy="5400720"/>
          </a:xfrm>
          <a:prstGeom prst="rect">
            <a:avLst/>
          </a:prstGeom>
          <a:solidFill>
            <a:srgbClr val="bbe0e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_s1028"/>
          <p:cNvSpPr/>
          <p:nvPr/>
        </p:nvSpPr>
        <p:spPr>
          <a:xfrm>
            <a:off x="5364000" y="1557360"/>
            <a:ext cx="1656000" cy="3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83"/>
          <p:cNvSpPr/>
          <p:nvPr/>
        </p:nvSpPr>
        <p:spPr>
          <a:xfrm rot="5400000">
            <a:off x="5092920" y="4813920"/>
            <a:ext cx="1943280" cy="614520"/>
          </a:xfrm>
          <a:custGeom>
            <a:avLst/>
            <a:gdLst>
              <a:gd name="textAreaLeft" fmla="*/ 303480 w 1943280"/>
              <a:gd name="textAreaRight" fmla="*/ 1700640 w 1943280"/>
              <a:gd name="textAreaTop" fmla="*/ 153720 h 614520"/>
              <a:gd name="textAreaBottom" fmla="*/ 461160 h 614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f70"/>
              </a:gs>
              <a:gs pos="100000">
                <a:srgbClr val="bbe0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_s1028"/>
          <p:cNvSpPr/>
          <p:nvPr/>
        </p:nvSpPr>
        <p:spPr>
          <a:xfrm>
            <a:off x="7237440" y="1557360"/>
            <a:ext cx="1655640" cy="3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m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88"/>
          <p:cNvSpPr/>
          <p:nvPr/>
        </p:nvSpPr>
        <p:spPr>
          <a:xfrm rot="5400000">
            <a:off x="6893640" y="4812480"/>
            <a:ext cx="1942920" cy="614160"/>
          </a:xfrm>
          <a:custGeom>
            <a:avLst/>
            <a:gdLst>
              <a:gd name="textAreaLeft" fmla="*/ 303480 w 1942920"/>
              <a:gd name="textAreaRight" fmla="*/ 1700280 w 1942920"/>
              <a:gd name="textAreaTop" fmla="*/ 153360 h 614160"/>
              <a:gd name="textAreaBottom" fmla="*/ 460800 h 614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f70"/>
              </a:gs>
              <a:gs pos="100000">
                <a:srgbClr val="bbe0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_s1028"/>
          <p:cNvSpPr/>
          <p:nvPr/>
        </p:nvSpPr>
        <p:spPr>
          <a:xfrm>
            <a:off x="4788000" y="907920"/>
            <a:ext cx="2663640" cy="58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Creative class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_s1030"/>
          <p:cNvSpPr/>
          <p:nvPr/>
        </p:nvSpPr>
        <p:spPr>
          <a:xfrm>
            <a:off x="4140360" y="6094440"/>
            <a:ext cx="381636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2"/>
          <p:cNvSpPr/>
          <p:nvPr/>
        </p:nvSpPr>
        <p:spPr>
          <a:xfrm>
            <a:off x="3132000" y="2349360"/>
            <a:ext cx="4320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132"/>
          <p:cNvCxnSpPr>
            <a:stCxn id="393" idx="1"/>
          </p:cNvCxnSpPr>
          <p:nvPr/>
        </p:nvCxnSpPr>
        <p:spPr>
          <a:xfrm rot="10800000">
            <a:off x="1042200" y="2491560"/>
            <a:ext cx="3079080" cy="3855240"/>
          </a:xfrm>
          <a:prstGeom prst="curvedConnector2">
            <a:avLst/>
          </a:prstGeom>
          <a:ln w="507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396" name="_s1028"/>
          <p:cNvSpPr/>
          <p:nvPr/>
        </p:nvSpPr>
        <p:spPr>
          <a:xfrm>
            <a:off x="684360" y="3860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oca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AutoShape 134"/>
          <p:cNvCxnSpPr>
            <a:stCxn id="392" idx="0"/>
            <a:endCxn id="383" idx="1"/>
          </p:cNvCxnSpPr>
          <p:nvPr/>
        </p:nvCxnSpPr>
        <p:spPr>
          <a:xfrm flipV="1" rot="16200000">
            <a:off x="3832200" y="-1392120"/>
            <a:ext cx="283320" cy="4291560"/>
          </a:xfrm>
          <a:prstGeom prst="curvedConnector5">
            <a:avLst>
              <a:gd name="adj1" fmla="val 239821"/>
              <a:gd name="adj2" fmla="val 50000"/>
              <a:gd name="adj3" fmla="val 239821"/>
            </a:avLst>
          </a:prstGeom>
          <a:ln w="50760">
            <a:solidFill>
              <a:srgbClr val="ff6600"/>
            </a:solidFill>
            <a:prstDash val="sysDot"/>
            <a:miter/>
            <a:headEnd len="med" type="triangle" w="med"/>
          </a:ln>
        </p:spPr>
      </p:cxnSp>
      <p:sp>
        <p:nvSpPr>
          <p:cNvPr id="398" name="_s1030"/>
          <p:cNvSpPr/>
          <p:nvPr/>
        </p:nvSpPr>
        <p:spPr>
          <a:xfrm>
            <a:off x="3564000" y="32148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36"/>
          <p:cNvSpPr/>
          <p:nvPr/>
        </p:nvSpPr>
        <p:spPr>
          <a:xfrm>
            <a:off x="4643280" y="3070080"/>
            <a:ext cx="79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_s1030"/>
          <p:cNvSpPr/>
          <p:nvPr/>
        </p:nvSpPr>
        <p:spPr>
          <a:xfrm>
            <a:off x="5465880" y="32148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38"/>
          <p:cNvSpPr/>
          <p:nvPr/>
        </p:nvSpPr>
        <p:spPr>
          <a:xfrm>
            <a:off x="6524640" y="307008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_s1030"/>
          <p:cNvSpPr/>
          <p:nvPr/>
        </p:nvSpPr>
        <p:spPr>
          <a:xfrm>
            <a:off x="7257960" y="3213000"/>
            <a:ext cx="98604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0"/>
          <p:cNvSpPr/>
          <p:nvPr/>
        </p:nvSpPr>
        <p:spPr>
          <a:xfrm>
            <a:off x="8317080" y="306864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_s1030"/>
          <p:cNvSpPr/>
          <p:nvPr/>
        </p:nvSpPr>
        <p:spPr>
          <a:xfrm>
            <a:off x="3564000" y="4151160"/>
            <a:ext cx="985680" cy="34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2"/>
          <p:cNvSpPr/>
          <p:nvPr/>
        </p:nvSpPr>
        <p:spPr>
          <a:xfrm>
            <a:off x="4643280" y="4006800"/>
            <a:ext cx="79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_s1030"/>
          <p:cNvSpPr/>
          <p:nvPr/>
        </p:nvSpPr>
        <p:spPr>
          <a:xfrm>
            <a:off x="5465880" y="4151160"/>
            <a:ext cx="985680" cy="34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44"/>
          <p:cNvSpPr/>
          <p:nvPr/>
        </p:nvSpPr>
        <p:spPr>
          <a:xfrm>
            <a:off x="6524640" y="400680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_s1030"/>
          <p:cNvSpPr/>
          <p:nvPr/>
        </p:nvSpPr>
        <p:spPr>
          <a:xfrm>
            <a:off x="7257960" y="4149720"/>
            <a:ext cx="98604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6"/>
          <p:cNvSpPr/>
          <p:nvPr/>
        </p:nvSpPr>
        <p:spPr>
          <a:xfrm>
            <a:off x="8317080" y="400536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_s1030"/>
          <p:cNvSpPr/>
          <p:nvPr/>
        </p:nvSpPr>
        <p:spPr>
          <a:xfrm>
            <a:off x="3564000" y="22194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8"/>
          <p:cNvSpPr/>
          <p:nvPr/>
        </p:nvSpPr>
        <p:spPr>
          <a:xfrm>
            <a:off x="4643280" y="2075040"/>
            <a:ext cx="79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_s1030"/>
          <p:cNvSpPr/>
          <p:nvPr/>
        </p:nvSpPr>
        <p:spPr>
          <a:xfrm>
            <a:off x="5465880" y="22194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0"/>
          <p:cNvSpPr/>
          <p:nvPr/>
        </p:nvSpPr>
        <p:spPr>
          <a:xfrm>
            <a:off x="6524640" y="207504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_s1030"/>
          <p:cNvSpPr/>
          <p:nvPr/>
        </p:nvSpPr>
        <p:spPr>
          <a:xfrm>
            <a:off x="7257960" y="2217600"/>
            <a:ext cx="986040" cy="34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52"/>
          <p:cNvSpPr/>
          <p:nvPr/>
        </p:nvSpPr>
        <p:spPr>
          <a:xfrm>
            <a:off x="8317080" y="207324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_s1030"/>
          <p:cNvSpPr/>
          <p:nvPr/>
        </p:nvSpPr>
        <p:spPr>
          <a:xfrm>
            <a:off x="3564000" y="50148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54"/>
          <p:cNvSpPr/>
          <p:nvPr/>
        </p:nvSpPr>
        <p:spPr>
          <a:xfrm>
            <a:off x="4643280" y="4929120"/>
            <a:ext cx="7923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_s1030"/>
          <p:cNvSpPr/>
          <p:nvPr/>
        </p:nvSpPr>
        <p:spPr>
          <a:xfrm>
            <a:off x="5465880" y="50148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56"/>
          <p:cNvSpPr/>
          <p:nvPr/>
        </p:nvSpPr>
        <p:spPr>
          <a:xfrm>
            <a:off x="6524640" y="4929120"/>
            <a:ext cx="792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_s1030"/>
          <p:cNvSpPr/>
          <p:nvPr/>
        </p:nvSpPr>
        <p:spPr>
          <a:xfrm>
            <a:off x="7257960" y="5013360"/>
            <a:ext cx="98604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8"/>
          <p:cNvSpPr/>
          <p:nvPr/>
        </p:nvSpPr>
        <p:spPr>
          <a:xfrm>
            <a:off x="8317080" y="4927680"/>
            <a:ext cx="792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907920"/>
            <a:ext cx="9144000" cy="151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99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141720"/>
            <a:ext cx="9144000" cy="718920"/>
          </a:xfrm>
          <a:prstGeom prst="rect">
            <a:avLst/>
          </a:prstGeom>
          <a:solidFill>
            <a:srgbClr val="0066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4653000"/>
            <a:ext cx="9144000" cy="1081080"/>
          </a:xfrm>
          <a:prstGeom prst="rect">
            <a:avLst/>
          </a:prstGeom>
          <a:gradFill rotWithShape="0">
            <a:gsLst>
              <a:gs pos="0">
                <a:srgbClr val="006699">
                  <a:alpha val="31372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" y="692280"/>
            <a:ext cx="6985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The Initiative on Creative Classrooms is innovative du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4000" y="1654200"/>
            <a:ext cx="770400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experimental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transversal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upscaling of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king changes systemic and 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phasis on European–wide polic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ijdelijke aanduiding voor dianummer 1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2AE9-B482-49BB-8127-6EDDC2B2216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7360" y="297000"/>
            <a:ext cx="5805720" cy="72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43a91"/>
                </a:solidFill>
                <a:latin typeface="Arial"/>
              </a:rPr>
              <a:t>What ? Creative Classrooms initiative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68360" y="1413000"/>
            <a:ext cx="8229600" cy="44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Experimentations which are linked up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Based on concrete problems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Whole-system oriented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Providing evidence-based response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Real-life experimentations in local context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Carried by the users - innovation (bottom-up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Upscaling of innovations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Leadership top-down (policy makers; key stakeholders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Emphasis on European-wide cooperation in policy development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0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CBB6-A220-478A-AAF2-4EDA548C2D3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ijdelijke aanduiding voor dianummer 1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6AD9-461A-4AF4-96AA-D4C4B7C2274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43a91"/>
                </a:solidFill>
                <a:latin typeface="Arial"/>
              </a:rPr>
              <a:t>What ?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39640" y="98100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Providing 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guidance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to policy makers and practitioners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‘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Learning what works and what does not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’ as input to evidence-based policy making at all levels of E&amp;T 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Linking 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policy experimentations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in 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real life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settings 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Upscaling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across Europe 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Increase impact on 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systemic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level 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Reaching  a large number of learners, institutions, learning centres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Involving 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multiple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stakeholders (informal, non-formal &amp; formal)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4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C482-844E-4A1D-8070-4EF2CE636CA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jdelijke aanduiding voor dianummer 1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B77E-4184-46A4-A834-E1CFB4C6245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7360" y="297000"/>
            <a:ext cx="5805720" cy="72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2d2d8a"/>
                </a:solidFill>
                <a:latin typeface="Arial"/>
              </a:rPr>
              <a:t>Transversal issu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593720"/>
            <a:ext cx="8229600" cy="37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Based on sound research methodologie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Monitoring and evaluation of the various experimentation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Deriving key lesson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Transferring these lessons to the policy makers as well as to practice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Reporting and brokering the lesson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8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E25F-FA8B-4796-BDBA-149A3FE436B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ijdelijke aanduiding voor dianummer 2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E67A-C91C-4396-823C-494ACBF29F67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59"/>
          <p:cNvSpPr/>
          <p:nvPr/>
        </p:nvSpPr>
        <p:spPr>
          <a:xfrm>
            <a:off x="3132000" y="1270080"/>
            <a:ext cx="6012000" cy="532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44f70">
                  <a:alpha val="70196"/>
                </a:srgbClr>
              </a:gs>
              <a:gs pos="100000">
                <a:srgbClr val="044b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loud"/>
          <p:cNvSpPr/>
          <p:nvPr/>
        </p:nvSpPr>
        <p:spPr>
          <a:xfrm rot="11217000">
            <a:off x="250560" y="619920"/>
            <a:ext cx="2706480" cy="1814760"/>
          </a:xfrm>
          <a:custGeom>
            <a:avLst/>
            <a:gdLst>
              <a:gd name="textAreaLeft" fmla="*/ 372960 w 2706480"/>
              <a:gd name="textAreaRight" fmla="*/ 2141280 w 2706480"/>
              <a:gd name="textAreaTop" fmla="*/ 273960 h 1814760"/>
              <a:gd name="textAreaBottom" fmla="*/ 1456560 h 1814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7686000"/>
          </a:gradFill>
          <a:ln w="3168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24000" y="100008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valuate the potential impact of a policy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_s1028"/>
          <p:cNvSpPr/>
          <p:nvPr/>
        </p:nvSpPr>
        <p:spPr>
          <a:xfrm>
            <a:off x="4786200" y="2048040"/>
            <a:ext cx="1656000" cy="3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_s1028"/>
          <p:cNvSpPr/>
          <p:nvPr/>
        </p:nvSpPr>
        <p:spPr>
          <a:xfrm>
            <a:off x="4788000" y="907920"/>
            <a:ext cx="2663640" cy="58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Creative class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_s1030"/>
          <p:cNvSpPr/>
          <p:nvPr/>
        </p:nvSpPr>
        <p:spPr>
          <a:xfrm>
            <a:off x="4140360" y="6094440"/>
            <a:ext cx="381636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"/>
          <p:cNvSpPr/>
          <p:nvPr/>
        </p:nvSpPr>
        <p:spPr>
          <a:xfrm>
            <a:off x="3419640" y="2349360"/>
            <a:ext cx="43164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AutoShape 132"/>
          <p:cNvCxnSpPr>
            <a:stCxn id="445" idx="1"/>
          </p:cNvCxnSpPr>
          <p:nvPr/>
        </p:nvCxnSpPr>
        <p:spPr>
          <a:xfrm rot="10800000">
            <a:off x="1042200" y="2491560"/>
            <a:ext cx="3079080" cy="3855240"/>
          </a:xfrm>
          <a:prstGeom prst="curvedConnector2">
            <a:avLst/>
          </a:prstGeom>
          <a:ln w="507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448" name="_s1028"/>
          <p:cNvSpPr/>
          <p:nvPr/>
        </p:nvSpPr>
        <p:spPr>
          <a:xfrm>
            <a:off x="684360" y="3860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oca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AutoShape 134"/>
          <p:cNvCxnSpPr/>
          <p:nvPr/>
        </p:nvCxnSpPr>
        <p:spPr>
          <a:xfrm flipV="1" rot="16200000">
            <a:off x="3868920" y="-1392480"/>
            <a:ext cx="283320" cy="4291920"/>
          </a:xfrm>
          <a:prstGeom prst="curvedConnector5">
            <a:avLst>
              <a:gd name="adj1" fmla="val 239821"/>
              <a:gd name="adj2" fmla="val 49995"/>
              <a:gd name="adj3" fmla="val 239821"/>
            </a:avLst>
          </a:prstGeom>
          <a:ln w="50760">
            <a:solidFill>
              <a:srgbClr val="ff6600"/>
            </a:solidFill>
            <a:prstDash val="sysDot"/>
            <a:miter/>
            <a:headEnd len="med" type="triangle" w="med"/>
          </a:ln>
        </p:spPr>
      </p:cxnSp>
      <p:grpSp>
        <p:nvGrpSpPr>
          <p:cNvPr id="450" name=""/>
          <p:cNvGrpSpPr/>
          <p:nvPr/>
        </p:nvGrpSpPr>
        <p:grpSpPr>
          <a:xfrm>
            <a:off x="4788000" y="2590920"/>
            <a:ext cx="1871640" cy="2711520"/>
            <a:chOff x="4788000" y="2590920"/>
            <a:chExt cx="1871640" cy="2711520"/>
          </a:xfrm>
        </p:grpSpPr>
        <p:sp>
          <p:nvSpPr>
            <p:cNvPr id="451" name="_s1030"/>
            <p:cNvSpPr/>
            <p:nvPr/>
          </p:nvSpPr>
          <p:spPr>
            <a:xfrm>
              <a:off x="4788000" y="3730680"/>
              <a:ext cx="985680" cy="349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44f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untry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36"/>
            <p:cNvSpPr/>
            <p:nvPr/>
          </p:nvSpPr>
          <p:spPr>
            <a:xfrm>
              <a:off x="5867280" y="3585960"/>
              <a:ext cx="79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1030"/>
            <p:cNvSpPr/>
            <p:nvPr/>
          </p:nvSpPr>
          <p:spPr>
            <a:xfrm>
              <a:off x="4788000" y="4667040"/>
              <a:ext cx="985680" cy="34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44f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untry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42"/>
            <p:cNvSpPr/>
            <p:nvPr/>
          </p:nvSpPr>
          <p:spPr>
            <a:xfrm>
              <a:off x="5867280" y="4522680"/>
              <a:ext cx="79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1030"/>
            <p:cNvSpPr/>
            <p:nvPr/>
          </p:nvSpPr>
          <p:spPr>
            <a:xfrm>
              <a:off x="4788000" y="2735280"/>
              <a:ext cx="985680" cy="349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44f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untry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48"/>
            <p:cNvSpPr/>
            <p:nvPr/>
          </p:nvSpPr>
          <p:spPr>
            <a:xfrm>
              <a:off x="5867280" y="2590920"/>
              <a:ext cx="79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57" name="AutoShape 132"/>
          <p:cNvCxnSpPr>
            <a:stCxn id="445" idx="1"/>
            <a:endCxn id="453" idx="1"/>
          </p:cNvCxnSpPr>
          <p:nvPr/>
        </p:nvCxnSpPr>
        <p:spPr>
          <a:xfrm flipH="1" rot="10800000">
            <a:off x="4120920" y="4841280"/>
            <a:ext cx="654480" cy="1505520"/>
          </a:xfrm>
          <a:prstGeom prst="curvedConnector5">
            <a:avLst>
              <a:gd name="adj1" fmla="val -32030"/>
              <a:gd name="adj2" fmla="val 49988"/>
              <a:gd name="adj3" fmla="val -32030"/>
            </a:avLst>
          </a:prstGeom>
          <a:ln w="507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458" name="AutoShape 132"/>
          <p:cNvCxnSpPr>
            <a:stCxn id="445" idx="1"/>
            <a:endCxn id="451" idx="1"/>
          </p:cNvCxnSpPr>
          <p:nvPr/>
        </p:nvCxnSpPr>
        <p:spPr>
          <a:xfrm flipH="1" rot="10800000">
            <a:off x="4120920" y="3904560"/>
            <a:ext cx="654480" cy="2442240"/>
          </a:xfrm>
          <a:prstGeom prst="curvedConnector5">
            <a:avLst>
              <a:gd name="adj1" fmla="val -32030"/>
              <a:gd name="adj2" fmla="val 49992"/>
              <a:gd name="adj3" fmla="val -32030"/>
            </a:avLst>
          </a:prstGeom>
          <a:ln w="507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459" name="AutoShape 132"/>
          <p:cNvCxnSpPr>
            <a:stCxn id="445" idx="1"/>
            <a:endCxn id="455" idx="1"/>
          </p:cNvCxnSpPr>
          <p:nvPr/>
        </p:nvCxnSpPr>
        <p:spPr>
          <a:xfrm flipH="1" rot="10800000">
            <a:off x="4120920" y="2909160"/>
            <a:ext cx="654480" cy="3437640"/>
          </a:xfrm>
          <a:prstGeom prst="curvedConnector5">
            <a:avLst>
              <a:gd name="adj1" fmla="val -32030"/>
              <a:gd name="adj2" fmla="val 50000"/>
              <a:gd name="adj3" fmla="val -32030"/>
            </a:avLst>
          </a:prstGeom>
          <a:ln w="507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460" name="_s1028"/>
          <p:cNvSpPr/>
          <p:nvPr/>
        </p:nvSpPr>
        <p:spPr>
          <a:xfrm>
            <a:off x="2374920" y="77760"/>
            <a:ext cx="334800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8"/>
          <p:cNvSpPr/>
          <p:nvPr/>
        </p:nvSpPr>
        <p:spPr>
          <a:xfrm>
            <a:off x="2338560" y="50760"/>
            <a:ext cx="34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Testing innovation in real life      settings = policy experimenta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00"/>
          <p:cNvSpPr/>
          <p:nvPr/>
        </p:nvSpPr>
        <p:spPr>
          <a:xfrm rot="5400000">
            <a:off x="7360560" y="4418640"/>
            <a:ext cx="2449440" cy="758880"/>
          </a:xfrm>
          <a:custGeom>
            <a:avLst/>
            <a:gdLst>
              <a:gd name="textAreaLeft" fmla="*/ 382680 w 2449440"/>
              <a:gd name="textAreaRight" fmla="*/ 2143440 w 2449440"/>
              <a:gd name="textAreaTop" fmla="*/ 189720 h 758880"/>
              <a:gd name="textAreaBottom" fmla="*/ 569160 h 758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f70"/>
              </a:gs>
              <a:gs pos="100000">
                <a:srgbClr val="bbe0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515280" y="2708280"/>
            <a:ext cx="1296360" cy="2591640"/>
            <a:chOff x="6515280" y="2708280"/>
            <a:chExt cx="1296360" cy="2591640"/>
          </a:xfrm>
        </p:grpSpPr>
        <p:grpSp>
          <p:nvGrpSpPr>
            <p:cNvPr id="464" name=""/>
            <p:cNvGrpSpPr/>
            <p:nvPr/>
          </p:nvGrpSpPr>
          <p:grpSpPr>
            <a:xfrm>
              <a:off x="6515280" y="2708280"/>
              <a:ext cx="1296360" cy="647280"/>
              <a:chOff x="6515280" y="2708280"/>
              <a:chExt cx="1296360" cy="647280"/>
            </a:xfrm>
          </p:grpSpPr>
          <p:sp>
            <p:nvSpPr>
              <p:cNvPr id="465" name=""/>
              <p:cNvSpPr/>
              <p:nvPr/>
            </p:nvSpPr>
            <p:spPr>
              <a:xfrm>
                <a:off x="6515280" y="2923920"/>
                <a:ext cx="1296360" cy="71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15280" y="2708280"/>
                <a:ext cx="1296360" cy="28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6515280" y="2995200"/>
                <a:ext cx="1296360" cy="144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6515280" y="2995200"/>
                <a:ext cx="1296360" cy="360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515280" y="3716280"/>
              <a:ext cx="1296360" cy="647280"/>
              <a:chOff x="6515280" y="3716280"/>
              <a:chExt cx="1296360" cy="647280"/>
            </a:xfrm>
          </p:grpSpPr>
          <p:sp>
            <p:nvSpPr>
              <p:cNvPr id="470" name=""/>
              <p:cNvSpPr/>
              <p:nvPr/>
            </p:nvSpPr>
            <p:spPr>
              <a:xfrm>
                <a:off x="6515280" y="3931920"/>
                <a:ext cx="1296360" cy="71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515280" y="3716280"/>
                <a:ext cx="1296360" cy="28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515280" y="4003200"/>
                <a:ext cx="1296360" cy="144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6515280" y="4003200"/>
                <a:ext cx="1296360" cy="360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6515280" y="4652640"/>
              <a:ext cx="1296360" cy="647280"/>
              <a:chOff x="6515280" y="4652640"/>
              <a:chExt cx="1296360" cy="647280"/>
            </a:xfrm>
          </p:grpSpPr>
          <p:sp>
            <p:nvSpPr>
              <p:cNvPr id="475" name=""/>
              <p:cNvSpPr/>
              <p:nvPr/>
            </p:nvSpPr>
            <p:spPr>
              <a:xfrm>
                <a:off x="6515280" y="4868280"/>
                <a:ext cx="1296360" cy="71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15280" y="4652640"/>
                <a:ext cx="1296360" cy="28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515280" y="4939560"/>
                <a:ext cx="1296360" cy="144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6515280" y="4939560"/>
                <a:ext cx="1296360" cy="360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102"/>
          <p:cNvSpPr/>
          <p:nvPr/>
        </p:nvSpPr>
        <p:spPr>
          <a:xfrm>
            <a:off x="7812000" y="2219400"/>
            <a:ext cx="43200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00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0" y="1125360"/>
            <a:ext cx="91440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6012000" y="2637000"/>
            <a:ext cx="1584360" cy="3456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456000"/>
              <a:gd name="textAreaBottom" fmla="*/ 3378960 h 3456000"/>
            </a:gdLst>
            <a:ahLst/>
            <a:rect l="textAreaLeft" t="textAreaTop" r="textAreaRight" b="textAreaBottom"/>
            <a:pathLst>
              <a:path w="21600" h="47111">
                <a:moveTo>
                  <a:pt x="3600" y="0"/>
                </a:moveTo>
                <a:arcTo wR="3600" hR="3600" stAng="16200000" swAng="-5400000"/>
                <a:lnTo>
                  <a:pt x="0" y="43511"/>
                </a:lnTo>
                <a:arcTo wR="3600" hR="3600" stAng="10800000" swAng="-5400000"/>
                <a:lnTo>
                  <a:pt x="18000" y="47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50760">
            <a:solidFill>
              <a:srgbClr val="044f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39"/>
          <p:cNvSpPr/>
          <p:nvPr/>
        </p:nvSpPr>
        <p:spPr>
          <a:xfrm rot="16200000">
            <a:off x="5795640" y="429372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3"/>
          <p:cNvSpPr/>
          <p:nvPr/>
        </p:nvSpPr>
        <p:spPr>
          <a:xfrm flipH="1" flipV="1" rot="16200000">
            <a:off x="5904360" y="1954080"/>
            <a:ext cx="501840" cy="863640"/>
          </a:xfrm>
          <a:custGeom>
            <a:avLst/>
            <a:gdLst>
              <a:gd name="textAreaLeft" fmla="*/ 289080 w 501840"/>
              <a:gd name="textAreaRight" fmla="*/ 424080 w 501840"/>
              <a:gd name="textAreaTop" fmla="*/ 115920 h 863640"/>
              <a:gd name="textAreaBottom" fmla="*/ 3693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3"/>
          <p:cNvSpPr/>
          <p:nvPr/>
        </p:nvSpPr>
        <p:spPr>
          <a:xfrm flipH="1" rot="5400000">
            <a:off x="5902920" y="5911560"/>
            <a:ext cx="504720" cy="863640"/>
          </a:xfrm>
          <a:custGeom>
            <a:avLst/>
            <a:gdLst>
              <a:gd name="textAreaLeft" fmla="*/ 290520 w 504720"/>
              <a:gd name="textAreaRight" fmla="*/ 425880 w 504720"/>
              <a:gd name="textAreaTop" fmla="*/ 116280 h 863640"/>
              <a:gd name="textAreaBottom" fmla="*/ 3697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dianummer 3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A37A-735C-4344-8208-38B64B996B25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1"/>
          <p:cNvSpPr/>
          <p:nvPr/>
        </p:nvSpPr>
        <p:spPr>
          <a:xfrm>
            <a:off x="1440" y="260280"/>
            <a:ext cx="1656000" cy="576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2"/>
          <p:cNvSpPr/>
          <p:nvPr/>
        </p:nvSpPr>
        <p:spPr>
          <a:xfrm>
            <a:off x="0" y="836640"/>
            <a:ext cx="1655640" cy="720720"/>
          </a:xfrm>
          <a:prstGeom prst="rect">
            <a:avLst/>
          </a:prstGeom>
          <a:gradFill rotWithShape="0">
            <a:gsLst>
              <a:gs pos="0">
                <a:srgbClr val="006699">
                  <a:alpha val="72156"/>
                </a:srgbClr>
              </a:gs>
              <a:gs pos="100000">
                <a:srgbClr val="67a4c2">
                  <a:alpha val="3529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3"/>
          <p:cNvSpPr/>
          <p:nvPr/>
        </p:nvSpPr>
        <p:spPr>
          <a:xfrm>
            <a:off x="0" y="2709720"/>
            <a:ext cx="1871640" cy="57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4"/>
          <p:cNvSpPr/>
          <p:nvPr/>
        </p:nvSpPr>
        <p:spPr>
          <a:xfrm>
            <a:off x="0" y="3141720"/>
            <a:ext cx="1871640" cy="1008000"/>
          </a:xfrm>
          <a:prstGeom prst="rect">
            <a:avLst/>
          </a:prstGeom>
          <a:gradFill rotWithShape="0">
            <a:gsLst>
              <a:gs pos="0">
                <a:srgbClr val="006699">
                  <a:alpha val="72156"/>
                </a:srgbClr>
              </a:gs>
              <a:gs pos="100000">
                <a:srgbClr val="67a4c2">
                  <a:alpha val="3529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5"/>
          <p:cNvSpPr/>
          <p:nvPr/>
        </p:nvSpPr>
        <p:spPr>
          <a:xfrm>
            <a:off x="0" y="1916280"/>
            <a:ext cx="1871640" cy="57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6"/>
          <p:cNvSpPr/>
          <p:nvPr/>
        </p:nvSpPr>
        <p:spPr>
          <a:xfrm>
            <a:off x="0" y="4292640"/>
            <a:ext cx="1871640" cy="576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7"/>
          <p:cNvSpPr/>
          <p:nvPr/>
        </p:nvSpPr>
        <p:spPr>
          <a:xfrm>
            <a:off x="0" y="6165720"/>
            <a:ext cx="1871640" cy="576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0" y="5157720"/>
            <a:ext cx="2736720" cy="647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1309680" y="260280"/>
            <a:ext cx="2016000" cy="1297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4032360" y="260280"/>
            <a:ext cx="1547640" cy="3816360"/>
          </a:xfrm>
          <a:custGeom>
            <a:avLst/>
            <a:gdLst>
              <a:gd name="textAreaLeft" fmla="*/ 75240 w 1547640"/>
              <a:gd name="textAreaRight" fmla="*/ 1472400 w 1547640"/>
              <a:gd name="textAreaTop" fmla="*/ 75240 h 3816360"/>
              <a:gd name="textAreaBottom" fmla="*/ 3741120 h 3816360"/>
            </a:gdLst>
            <a:ahLst/>
            <a:rect l="textAreaLeft" t="textAreaTop" r="textAreaRight" b="textAreaBottom"/>
            <a:pathLst>
              <a:path w="21600" h="53257">
                <a:moveTo>
                  <a:pt x="3600" y="0"/>
                </a:moveTo>
                <a:arcTo wR="3600" hR="3600" stAng="16200000" swAng="-5400000"/>
                <a:lnTo>
                  <a:pt x="0" y="49657"/>
                </a:lnTo>
                <a:arcTo wR="3600" hR="3600" stAng="10800000" swAng="-5400000"/>
                <a:lnTo>
                  <a:pt x="18000" y="532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>
              <a:alpha val="45000"/>
            </a:srgbClr>
          </a:solidFill>
          <a:ln w="38160">
            <a:solidFill>
              <a:srgbClr val="044f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1368360" y="1916280"/>
            <a:ext cx="43927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44f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1"/>
          <p:cNvSpPr/>
          <p:nvPr/>
        </p:nvSpPr>
        <p:spPr>
          <a:xfrm>
            <a:off x="2330280" y="5157720"/>
            <a:ext cx="2521080" cy="649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1380960" y="40464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ncept C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1309680" y="922320"/>
            <a:ext cx="1944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Definition of the optimal condi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5"/>
          <p:cNvSpPr/>
          <p:nvPr/>
        </p:nvSpPr>
        <p:spPr>
          <a:xfrm>
            <a:off x="1309680" y="2709720"/>
            <a:ext cx="2016000" cy="1440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1440000" y="2768760"/>
            <a:ext cx="1728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aunch call for pilo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1309680" y="3357720"/>
            <a:ext cx="1944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sting at a large scale through real life pilo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AutoShape 19"/>
          <p:cNvCxnSpPr/>
          <p:nvPr/>
        </p:nvCxnSpPr>
        <p:spPr>
          <a:xfrm>
            <a:off x="1296720" y="836280"/>
            <a:ext cx="2042280" cy="1080"/>
          </a:xfrm>
          <a:prstGeom prst="straightConnector1">
            <a:avLst/>
          </a:prstGeom>
          <a:ln w="25560">
            <a:solidFill>
              <a:srgbClr val="003366"/>
            </a:solidFill>
            <a:miter/>
          </a:ln>
        </p:spPr>
      </p:cxnSp>
      <p:cxnSp>
        <p:nvCxnSpPr>
          <p:cNvPr id="505" name="AutoShape 24"/>
          <p:cNvCxnSpPr/>
          <p:nvPr/>
        </p:nvCxnSpPr>
        <p:spPr>
          <a:xfrm>
            <a:off x="1296720" y="3285720"/>
            <a:ext cx="2042280" cy="1080"/>
          </a:xfrm>
          <a:prstGeom prst="straightConnector1">
            <a:avLst/>
          </a:prstGeom>
          <a:ln w="25560">
            <a:solidFill>
              <a:srgbClr val="003366"/>
            </a:solidFill>
            <a:miter/>
          </a:ln>
        </p:spPr>
      </p:cxnSp>
      <p:sp>
        <p:nvSpPr>
          <p:cNvPr id="506" name="Text Box 25"/>
          <p:cNvSpPr/>
          <p:nvPr/>
        </p:nvSpPr>
        <p:spPr>
          <a:xfrm>
            <a:off x="1332000" y="2060640"/>
            <a:ext cx="4286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Validation of the concept through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DEB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6"/>
          <p:cNvSpPr/>
          <p:nvPr/>
        </p:nvSpPr>
        <p:spPr>
          <a:xfrm>
            <a:off x="1368360" y="4294080"/>
            <a:ext cx="4392720" cy="57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44f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"/>
          <p:cNvSpPr/>
          <p:nvPr/>
        </p:nvSpPr>
        <p:spPr>
          <a:xfrm>
            <a:off x="2475000" y="5230800"/>
            <a:ext cx="2232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Drawing lessons from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9"/>
          <p:cNvSpPr/>
          <p:nvPr/>
        </p:nvSpPr>
        <p:spPr>
          <a:xfrm>
            <a:off x="1368360" y="6167520"/>
            <a:ext cx="4392720" cy="574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44f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1"/>
          <p:cNvSpPr/>
          <p:nvPr/>
        </p:nvSpPr>
        <p:spPr>
          <a:xfrm rot="10800000">
            <a:off x="4851360" y="4869000"/>
            <a:ext cx="504720" cy="720720"/>
          </a:xfrm>
          <a:custGeom>
            <a:avLst/>
            <a:gdLst>
              <a:gd name="textAreaLeft" fmla="*/ 290520 w 504720"/>
              <a:gd name="textAreaRight" fmla="*/ 425880 w 504720"/>
              <a:gd name="textAreaTop" fmla="*/ 97200 h 720720"/>
              <a:gd name="textAreaBottom" fmla="*/ 308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6699">
                  <a:alpha val="94117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2"/>
          <p:cNvSpPr/>
          <p:nvPr/>
        </p:nvSpPr>
        <p:spPr>
          <a:xfrm flipH="1" rot="10800000">
            <a:off x="1827360" y="4869000"/>
            <a:ext cx="504720" cy="720720"/>
          </a:xfrm>
          <a:custGeom>
            <a:avLst/>
            <a:gdLst>
              <a:gd name="textAreaLeft" fmla="*/ 290520 w 504720"/>
              <a:gd name="textAreaRight" fmla="*/ 425880 w 504720"/>
              <a:gd name="textAreaTop" fmla="*/ 97200 h 720720"/>
              <a:gd name="textAreaBottom" fmla="*/ 308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6699">
                  <a:alpha val="94117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7"/>
          <p:cNvSpPr/>
          <p:nvPr/>
        </p:nvSpPr>
        <p:spPr>
          <a:xfrm>
            <a:off x="5113440" y="4076640"/>
            <a:ext cx="360360" cy="433440"/>
          </a:xfrm>
          <a:prstGeom prst="downArrow">
            <a:avLst>
              <a:gd name="adj1" fmla="val 50000"/>
              <a:gd name="adj2" fmla="val 42125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9"/>
          <p:cNvSpPr/>
          <p:nvPr/>
        </p:nvSpPr>
        <p:spPr>
          <a:xfrm>
            <a:off x="3338640" y="5805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0"/>
          <p:cNvSpPr/>
          <p:nvPr/>
        </p:nvSpPr>
        <p:spPr>
          <a:xfrm>
            <a:off x="1682640" y="1557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3080" y="333360"/>
            <a:ext cx="1224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January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36360" y="909720"/>
            <a:ext cx="719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arch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3080" y="203184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Jun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3080" y="285264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Jun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34920" y="357336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013/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73080" y="44370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73080" y="534528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73080" y="635328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7"/>
          <p:cNvSpPr/>
          <p:nvPr/>
        </p:nvSpPr>
        <p:spPr>
          <a:xfrm>
            <a:off x="3851280" y="765000"/>
            <a:ext cx="1800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ysis of          the progress       and 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5"/>
          <p:cNvSpPr/>
          <p:nvPr/>
        </p:nvSpPr>
        <p:spPr>
          <a:xfrm>
            <a:off x="1476360" y="4437000"/>
            <a:ext cx="410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DEBATE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with stakehol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1476360" y="6337440"/>
            <a:ext cx="410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DEBATE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with stakehol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7"/>
          <p:cNvSpPr/>
          <p:nvPr/>
        </p:nvSpPr>
        <p:spPr>
          <a:xfrm>
            <a:off x="6012000" y="3357720"/>
            <a:ext cx="1584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veloping        a broad stakeholders partn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37"/>
          <p:cNvSpPr/>
          <p:nvPr/>
        </p:nvSpPr>
        <p:spPr>
          <a:xfrm>
            <a:off x="1763640" y="4149720"/>
            <a:ext cx="360360" cy="361800"/>
          </a:xfrm>
          <a:prstGeom prst="downArrow">
            <a:avLst>
              <a:gd name="adj1" fmla="val 50000"/>
              <a:gd name="adj2" fmla="val 35163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37"/>
          <p:cNvSpPr/>
          <p:nvPr/>
        </p:nvSpPr>
        <p:spPr>
          <a:xfrm>
            <a:off x="1690560" y="2492280"/>
            <a:ext cx="360360" cy="216000"/>
          </a:xfrm>
          <a:prstGeom prst="downArrow">
            <a:avLst>
              <a:gd name="adj1" fmla="val 50000"/>
              <a:gd name="adj2" fmla="val 35023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4720" y="1268280"/>
            <a:ext cx="241128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re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492300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1187280" y="24210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826920" y="1268280"/>
            <a:ext cx="7488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Learning and innovation go hand in hand. The arrogance of success is to think that what you did yesterday will be sufficient for tomorrow. 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William Poll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97800" y="400536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acea.ec.europa.eu/static/en/llp/index_e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458640" y="3718080"/>
            <a:ext cx="822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The Lifelong Learning Pro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DEF flag-logoeac-LLP_EN"/>
          <p:cNvPicPr/>
          <p:nvPr/>
        </p:nvPicPr>
        <p:blipFill>
          <a:blip r:embed="rId3"/>
          <a:stretch/>
        </p:blipFill>
        <p:spPr>
          <a:xfrm>
            <a:off x="7010280" y="3718080"/>
            <a:ext cx="1582920" cy="641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EAC_EU_4c_EN"/>
          <p:cNvPicPr/>
          <p:nvPr/>
        </p:nvPicPr>
        <p:blipFill>
          <a:blip r:embed="rId4"/>
          <a:srcRect l="38428" t="0" r="0" b="0"/>
          <a:stretch/>
        </p:blipFill>
        <p:spPr>
          <a:xfrm>
            <a:off x="6948360" y="2781360"/>
            <a:ext cx="1224000" cy="593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0"/>
          <p:cNvSpPr/>
          <p:nvPr/>
        </p:nvSpPr>
        <p:spPr>
          <a:xfrm>
            <a:off x="468360" y="2781360"/>
            <a:ext cx="4240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DG Education and Cul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686160" y="3141720"/>
            <a:ext cx="53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c.europa.eu/dgs/education_culture/index_en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2"/>
          <p:cNvSpPr/>
          <p:nvPr/>
        </p:nvSpPr>
        <p:spPr>
          <a:xfrm>
            <a:off x="468360" y="449892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Contact person: Lieve Van den Brande – DG EAC-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4" descr="eacea"/>
          <p:cNvPicPr/>
          <p:nvPr/>
        </p:nvPicPr>
        <p:blipFill>
          <a:blip r:embed="rId7"/>
          <a:stretch/>
        </p:blipFill>
        <p:spPr>
          <a:xfrm>
            <a:off x="7020000" y="4724280"/>
            <a:ext cx="936720" cy="5558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5"/>
          <p:cNvSpPr/>
          <p:nvPr/>
        </p:nvSpPr>
        <p:spPr>
          <a:xfrm>
            <a:off x="655560" y="481824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Godelieve.van-den-brande@ec.europa.e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2300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87280" y="24210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6920" y="1268280"/>
            <a:ext cx="7488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Learning and innovation go hand in hand. The arrogance of success is to think that what you did yesterday will be sufficient for tomorrow. 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William Poll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8680" y="4005360"/>
            <a:ext cx="48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acea.ec.europa.eu/static/en/llp/index_en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8640" y="3718080"/>
            <a:ext cx="822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The Lifelong Learning Pro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7010280" y="3718080"/>
            <a:ext cx="1582920" cy="6411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rcRect l="38428" t="0" r="0" b="0"/>
          <a:stretch/>
        </p:blipFill>
        <p:spPr>
          <a:xfrm>
            <a:off x="6948360" y="2781360"/>
            <a:ext cx="1224000" cy="5936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468360" y="2781360"/>
            <a:ext cx="4240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DG Education and Cul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6160" y="3141720"/>
            <a:ext cx="53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c.europa.eu/dgs/education_culture/index_en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8360" y="4508640"/>
            <a:ext cx="822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The Executive Agen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9400" y="4797360"/>
            <a:ext cx="34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eacea.ec.europa.eu/index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6"/>
          <a:stretch/>
        </p:blipFill>
        <p:spPr>
          <a:xfrm>
            <a:off x="7020000" y="4724280"/>
            <a:ext cx="936720" cy="5558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684360" y="5155920"/>
            <a:ext cx="30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acea-info@ec.europa.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Lessons learned by the ICT cluster</a:t>
            </a:r>
            <a:r>
              <a:rPr b="0" lang="en-US" sz="1600" spc="-1" strike="noStrike">
                <a:solidFill>
                  <a:srgbClr val="0066cc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66cc"/>
                </a:solidFill>
                <a:latin typeface="Tahoma"/>
              </a:rPr>
              <a:t> Final Report - Learning, Innovation and ICT</a:t>
            </a:r>
            <a:endParaRPr b="0" lang="en-US" sz="1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8" name="Tijdelijke aanduiding voor dianummer 2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2862-C3F8-482C-90E5-A0D6247DC8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1071720" y="3648240"/>
            <a:ext cx="3317400" cy="2778840"/>
            <a:chOff x="1071720" y="3648240"/>
            <a:chExt cx="3317400" cy="2778840"/>
          </a:xfrm>
        </p:grpSpPr>
        <p:sp>
          <p:nvSpPr>
            <p:cNvPr id="131" name="Rectangle 4"/>
            <p:cNvSpPr/>
            <p:nvPr/>
          </p:nvSpPr>
          <p:spPr>
            <a:xfrm rot="16200000">
              <a:off x="1560960" y="3158640"/>
              <a:ext cx="2338560" cy="3317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1560960" y="4351320"/>
              <a:ext cx="2548440" cy="207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ahoma"/>
                </a:rPr>
                <a:t>Towards a new learning paradig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ahoma"/>
                </a:rPr>
                <a:t>Allow more learner-centred approach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6"/>
          <p:cNvSpPr/>
          <p:nvPr/>
        </p:nvSpPr>
        <p:spPr>
          <a:xfrm>
            <a:off x="4373640" y="3267000"/>
            <a:ext cx="3390840" cy="2719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025880" y="4840200"/>
            <a:ext cx="1065240" cy="10350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071720" y="1398600"/>
            <a:ext cx="3290760" cy="2325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0"/>
          <p:cNvGrpSpPr/>
          <p:nvPr/>
        </p:nvGrpSpPr>
        <p:grpSpPr>
          <a:xfrm>
            <a:off x="4362480" y="1398600"/>
            <a:ext cx="3401280" cy="2863080"/>
            <a:chOff x="4362480" y="1398600"/>
            <a:chExt cx="3401280" cy="2863080"/>
          </a:xfrm>
        </p:grpSpPr>
        <p:grpSp>
          <p:nvGrpSpPr>
            <p:cNvPr id="137" name="Group 11"/>
            <p:cNvGrpSpPr/>
            <p:nvPr/>
          </p:nvGrpSpPr>
          <p:grpSpPr>
            <a:xfrm>
              <a:off x="4362480" y="1398600"/>
              <a:ext cx="3401280" cy="2863080"/>
              <a:chOff x="4362480" y="1398600"/>
              <a:chExt cx="3401280" cy="2863080"/>
            </a:xfrm>
          </p:grpSpPr>
          <p:sp>
            <p:nvSpPr>
              <p:cNvPr id="138" name="Rectangle 12"/>
              <p:cNvSpPr/>
              <p:nvPr/>
            </p:nvSpPr>
            <p:spPr>
              <a:xfrm rot="5400000">
                <a:off x="4910400" y="850320"/>
                <a:ext cx="2305440" cy="3401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3"/>
              <p:cNvSpPr/>
              <p:nvPr/>
            </p:nvSpPr>
            <p:spPr>
              <a:xfrm rot="5400000">
                <a:off x="5491800" y="2956320"/>
                <a:ext cx="1152720" cy="14576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Rectangle 14"/>
            <p:cNvSpPr/>
            <p:nvPr/>
          </p:nvSpPr>
          <p:spPr>
            <a:xfrm>
              <a:off x="5309640" y="1968120"/>
              <a:ext cx="2257200" cy="1618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ahoma"/>
                </a:rPr>
                <a:t>Digital competences as core life and employability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5"/>
          <p:cNvGrpSpPr/>
          <p:nvPr/>
        </p:nvGrpSpPr>
        <p:grpSpPr>
          <a:xfrm>
            <a:off x="1071720" y="1571760"/>
            <a:ext cx="3710880" cy="1672200"/>
            <a:chOff x="1071720" y="1571760"/>
            <a:chExt cx="3710880" cy="1672200"/>
          </a:xfrm>
        </p:grpSpPr>
        <p:sp>
          <p:nvSpPr>
            <p:cNvPr id="142" name="Rectangle 16"/>
            <p:cNvSpPr/>
            <p:nvPr/>
          </p:nvSpPr>
          <p:spPr>
            <a:xfrm>
              <a:off x="2217960" y="2122920"/>
              <a:ext cx="168840" cy="365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7"/>
            <p:cNvSpPr/>
            <p:nvPr/>
          </p:nvSpPr>
          <p:spPr>
            <a:xfrm>
              <a:off x="3287160" y="1571760"/>
              <a:ext cx="1495440" cy="14706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"/>
            <p:cNvSpPr/>
            <p:nvPr/>
          </p:nvSpPr>
          <p:spPr>
            <a:xfrm>
              <a:off x="1071720" y="1625400"/>
              <a:ext cx="2681640" cy="1618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Leadership and institutional change for a renewed strategy on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19"/>
          <p:cNvSpPr/>
          <p:nvPr/>
        </p:nvSpPr>
        <p:spPr>
          <a:xfrm rot="16200000">
            <a:off x="2300040" y="3198240"/>
            <a:ext cx="909720" cy="1074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759120" y="3151080"/>
            <a:ext cx="1260720" cy="1314720"/>
            <a:chOff x="3759120" y="3151080"/>
            <a:chExt cx="1260720" cy="1314720"/>
          </a:xfrm>
        </p:grpSpPr>
        <p:pic>
          <p:nvPicPr>
            <p:cNvPr id="147" name="Picture 21" descr="button"/>
            <p:cNvPicPr/>
            <p:nvPr/>
          </p:nvPicPr>
          <p:blipFill>
            <a:blip r:embed="rId1"/>
            <a:stretch/>
          </p:blipFill>
          <p:spPr>
            <a:xfrm>
              <a:off x="3759120" y="3151080"/>
              <a:ext cx="126072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22"/>
            <p:cNvSpPr/>
            <p:nvPr/>
          </p:nvSpPr>
          <p:spPr>
            <a:xfrm>
              <a:off x="4294440" y="3677400"/>
              <a:ext cx="1692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23"/>
          <p:cNvSpPr/>
          <p:nvPr/>
        </p:nvSpPr>
        <p:spPr>
          <a:xfrm>
            <a:off x="3352680" y="3578400"/>
            <a:ext cx="2070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VIS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futur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4782960" y="3900600"/>
            <a:ext cx="251316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4334040" y="4011480"/>
            <a:ext cx="24494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10360" y="4465800"/>
            <a:ext cx="242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Tahoma"/>
              </a:rPr>
              <a:t>Professional development – the teacher as learner at th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7"/>
          <p:cNvSpPr/>
          <p:nvPr/>
        </p:nvSpPr>
        <p:spPr>
          <a:xfrm>
            <a:off x="650880" y="1204920"/>
            <a:ext cx="7623000" cy="0"/>
          </a:xfrm>
          <a:prstGeom prst="line">
            <a:avLst/>
          </a:prstGeom>
          <a:ln w="22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956720" cy="21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 fontScale="92000"/>
          </a:bodyPr>
          <a:p>
            <a:pPr marL="316800" indent="-316800" algn="just">
              <a:spcBef>
                <a:spcPts val="700"/>
              </a:spcBef>
              <a:spcAft>
                <a:spcPts val="21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As our societies are changing…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16800" indent="-316800" algn="just">
              <a:spcBef>
                <a:spcPts val="700"/>
              </a:spcBef>
              <a:spcAft>
                <a:spcPts val="21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we need to rethink E&amp;T and to  envision future learning that is more efficient, equitable, innovative and meaningful than it ever was in the pas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004480" y="204480"/>
            <a:ext cx="5224680" cy="41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future of learning...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84080" y="4508640"/>
            <a:ext cx="75772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4520" indent="-344520" algn="just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i="1" lang="en-GB" sz="2000" spc="-1" strike="noStrike" u="sng">
                <a:solidFill>
                  <a:srgbClr val="0066cc"/>
                </a:solidFill>
                <a:uFillTx/>
                <a:latin typeface="Arial"/>
              </a:rPr>
              <a:t>Foresight</a:t>
            </a:r>
            <a:r>
              <a:rPr b="0" i="1" lang="en-GB" sz="2000" spc="-1" strike="noStrike">
                <a:solidFill>
                  <a:srgbClr val="0066cc"/>
                </a:solidFill>
                <a:latin typeface="Arial"/>
              </a:rPr>
              <a:t> is not about predicting the future but rather a tool for longer-term strategic thinking and priority setting based on </a:t>
            </a:r>
            <a:r>
              <a:rPr b="0" i="1" lang="en-GB" sz="2000" spc="-1" strike="noStrike">
                <a:solidFill>
                  <a:srgbClr val="810528"/>
                </a:solidFill>
                <a:latin typeface="Arial"/>
              </a:rPr>
              <a:t>collaboratively developed shared visions and scenarios</a:t>
            </a:r>
            <a:r>
              <a:rPr b="0" i="1" lang="en-GB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but what is changing?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7010280" y="692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B0C0-B6A4-48E9-970A-78FD26F0305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0"/>
          <p:cNvSpPr/>
          <p:nvPr/>
        </p:nvSpPr>
        <p:spPr>
          <a:xfrm>
            <a:off x="1187280" y="314172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187280" y="242100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187280" y="105264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187280" y="2637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Individual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352160" y="12682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Teaching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1187280" y="177336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1187280" y="3860640"/>
            <a:ext cx="6985080" cy="792360"/>
          </a:xfrm>
          <a:prstGeom prst="rightArrow">
            <a:avLst>
              <a:gd name="adj1" fmla="val 64167"/>
              <a:gd name="adj2" fmla="val 220347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1187280" y="522936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1187280" y="587700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434600" y="19638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796000" y="33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1195920" y="400536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Hierarc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5843880" y="609300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Informal and Life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991600" y="5445000"/>
            <a:ext cx="24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ertification/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1187280" y="4581360"/>
            <a:ext cx="6985080" cy="792360"/>
          </a:xfrm>
          <a:prstGeom prst="rightArrow">
            <a:avLst>
              <a:gd name="adj1" fmla="val 64167"/>
              <a:gd name="adj2" fmla="val 220347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5928840" y="479736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8244000" y="1773360"/>
            <a:ext cx="64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f3277"/>
                </a:solidFill>
                <a:latin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143000" y="214200"/>
            <a:ext cx="7780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rning Spaces: a vision of futur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6330240" y="1963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6227640" y="2637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755640" y="33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1122120" y="479736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Rot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1199160" y="544500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Institutional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6021360" y="54450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Multiple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7080" y="6093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5867280" y="407664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Heterarc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396480" y="1268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252360" y="1916280"/>
            <a:ext cx="64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f3277"/>
                </a:solidFill>
                <a:latin typeface="Arial"/>
              </a:rPr>
              <a:t>20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04840" y="115920"/>
            <a:ext cx="5135760" cy="33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ey competences for lifelong learning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(Cf. 2006 Council Recommendation)</a:t>
            </a:r>
            <a:endParaRPr b="0" lang="en-US" sz="29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89" name="Rectangle 4"/>
          <p:cNvGraphicFramePr/>
          <p:nvPr/>
        </p:nvGraphicFramePr>
        <p:xfrm>
          <a:off x="317520" y="1100160"/>
          <a:ext cx="8508960" cy="47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100160"/>
                    <a:ext cx="850896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049400" y="6165720"/>
            <a:ext cx="73105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towards competence-based learning and transversal skills</a:t>
            </a:r>
            <a:r>
              <a:rPr b="0" lang="en-US" sz="29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8:56:21Z</dcterms:created>
  <dc:creator>conzese</dc:creator>
  <dc:description/>
  <dc:language>en-US</dc:language>
  <cp:lastModifiedBy>langego</cp:lastModifiedBy>
  <dcterms:modified xsi:type="dcterms:W3CDTF">2011-11-23T11:39:47Z</dcterms:modified>
  <cp:revision>281</cp:revision>
  <dc:subject/>
  <dc:title>Slide 1</dc:title>
</cp:coreProperties>
</file>