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4411520" y="-10034640"/>
            <a:ext cx="28824120" cy="216201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07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 form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+ form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2CD1-B374-49BE-8FED-EF1A0E85B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02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315B-7225-49A2-9DE9-E841ADF1F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108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D58B-6BD7-4EC7-9A5B-3F9D94F00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108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1080"/>
            <a:ext cx="2646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B869-556D-4D7B-B91B-B692CA0226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6687-BA55-43D1-A64C-581A935B8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873B-3A38-4FB4-A874-79B9039DE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0864-5560-444E-9B81-C3EFAB1F9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1D26-EBC4-40A3-8BC4-8B62F2AB3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024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0E16-4115-4F14-B790-452F6D52F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D334-1714-4A89-956B-C06D183EE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108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BA77-1998-4694-A98B-5C389BFAB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02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409A-F891-439F-BCA6-5C13ACF44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7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5EC8E-3A2A-48A7-A643-6581CDAA13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108000" y="5432400"/>
            <a:ext cx="8926560" cy="138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4360" y="1413000"/>
            <a:ext cx="770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Arial"/>
              </a:rPr>
              <a:t>Participatory Learning and Working in Vocational and Educational 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68360" y="4292640"/>
            <a:ext cx="5150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Arial"/>
              </a:rPr>
              <a:t>Francesca Carmagnola, </a:t>
            </a:r>
            <a:r>
              <a:rPr b="0" i="1" lang="it-IT" sz="1800" spc="-1" strike="noStrike">
                <a:solidFill>
                  <a:srgbClr val="3333cc"/>
                </a:solidFill>
                <a:latin typeface="Arial"/>
              </a:rPr>
              <a:t>ENGIM Piemonte, 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9"/>
          <p:cNvSpPr/>
          <p:nvPr/>
        </p:nvSpPr>
        <p:spPr>
          <a:xfrm>
            <a:off x="179280" y="2565360"/>
            <a:ext cx="8964720" cy="280836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07800" y="2818800"/>
            <a:ext cx="88362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 Community of Practice is a network of individuals wit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common problems or interests who get together to explo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ways of working, identify common solutions, and sha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good practice and ide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Steve Dale Director Semantix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908000" y="404640"/>
            <a:ext cx="6480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eam creation = connecting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56000" y="1830240"/>
            <a:ext cx="431964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munity of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4356000" y="838080"/>
            <a:ext cx="432000" cy="935280"/>
          </a:xfrm>
          <a:prstGeom prst="downArrow">
            <a:avLst>
              <a:gd name="adj1" fmla="val 50000"/>
              <a:gd name="adj2" fmla="val 54125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50920" y="765000"/>
            <a:ext cx="8642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P are not a way to bring new knowledge into an organisation, but an opportunity to support and increase the knowledge that is already available in the organis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t you in touch with like-minded colleagues and pe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ow you to share your experiences and learn from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ow you to collaborate and achieve common outcom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elerate your lear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ide the opportunity to innovate and create new ideas starting from existing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763640" y="189000"/>
            <a:ext cx="6048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munities of Practice: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50920" y="836640"/>
            <a:ext cx="8642160" cy="1440000"/>
          </a:xfrm>
          <a:prstGeom prst="rect">
            <a:avLst/>
          </a:prstGeom>
          <a:noFill/>
          <a:ln w="2844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63640" y="189000"/>
            <a:ext cx="6048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munities of Practice in ENG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24000" y="836640"/>
            <a:ext cx="83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etings facilit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-defined du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-defined number of meeting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ear action plan with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-defined shared goals to be ach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-defined maximum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erent roles, competencies and respons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e chief but only shared leadersh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240" y="663480"/>
            <a:ext cx="91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e didn’t get out the average of our competencies, but the preeminences of every single member have been brought to the ligh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63640" y="189000"/>
            <a:ext cx="68407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e meeting facilitator states tha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771640" y="3068640"/>
            <a:ext cx="3897360" cy="1249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200"/>
            </a:br>
            <a:r>
              <a:rPr b="0" i="1" lang="it-IT" sz="2200" spc="-1" strike="noStrike">
                <a:solidFill>
                  <a:srgbClr val="ffffff"/>
                </a:solidFill>
                <a:latin typeface="Arial"/>
              </a:rPr>
              <a:t>How the success is possibil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2880" y="4653000"/>
            <a:ext cx="46551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hared goals and common intere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771640" y="3141720"/>
            <a:ext cx="40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646520" y="1989000"/>
            <a:ext cx="41112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eserved working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367960" y="4869000"/>
            <a:ext cx="3068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reatly motivated te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71240" y="2276640"/>
            <a:ext cx="1919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pen net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AutoShape 13"/>
          <p:cNvCxnSpPr>
            <a:stCxn id="149" idx="1"/>
            <a:endCxn id="152" idx="2"/>
          </p:cNvCxnSpPr>
          <p:nvPr/>
        </p:nvCxnSpPr>
        <p:spPr>
          <a:xfrm rot="10800000">
            <a:off x="1431360" y="2753640"/>
            <a:ext cx="1340280" cy="711720"/>
          </a:xfrm>
          <a:prstGeom prst="bentConnector2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54" name="AutoShape 14"/>
          <p:cNvCxnSpPr/>
          <p:nvPr/>
        </p:nvCxnSpPr>
        <p:spPr>
          <a:xfrm rot="5400000">
            <a:off x="3421080" y="3354840"/>
            <a:ext cx="335520" cy="2210760"/>
          </a:xfrm>
          <a:prstGeom prst="bentConnector3">
            <a:avLst>
              <a:gd name="adj1" fmla="val 49731"/>
            </a:avLst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55" name="AutoShape 15"/>
          <p:cNvCxnSpPr>
            <a:stCxn id="147" idx="3"/>
          </p:cNvCxnSpPr>
          <p:nvPr/>
        </p:nvCxnSpPr>
        <p:spPr>
          <a:xfrm>
            <a:off x="6669000" y="3693960"/>
            <a:ext cx="1016640" cy="1340640"/>
          </a:xfrm>
          <a:prstGeom prst="bentConnector2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56" name="AutoShape 16"/>
          <p:cNvCxnSpPr>
            <a:stCxn id="149" idx="0"/>
            <a:endCxn id="150" idx="2"/>
          </p:cNvCxnSpPr>
          <p:nvPr/>
        </p:nvCxnSpPr>
        <p:spPr>
          <a:xfrm flipH="1" flipV="1" rot="5400000">
            <a:off x="5407560" y="1846800"/>
            <a:ext cx="675360" cy="1915200"/>
          </a:xfrm>
          <a:prstGeom prst="bentConnector3">
            <a:avLst>
              <a:gd name="adj1" fmla="val 50080"/>
            </a:avLst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07800" y="32796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Which tools to foster collaboration into Co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64072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965960" y="716760"/>
            <a:ext cx="5081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ail / Mailing Li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ephone Mee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ument storage and exchan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Basic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8"/>
          <p:cNvGrpSpPr/>
          <p:nvPr/>
        </p:nvGrpSpPr>
        <p:grpSpPr>
          <a:xfrm>
            <a:off x="395280" y="4292640"/>
            <a:ext cx="8497800" cy="1224000"/>
            <a:chOff x="395280" y="4292640"/>
            <a:chExt cx="8497800" cy="1224000"/>
          </a:xfrm>
        </p:grpSpPr>
        <p:sp>
          <p:nvSpPr>
            <p:cNvPr id="164" name="Rectangle 7"/>
            <p:cNvSpPr/>
            <p:nvPr/>
          </p:nvSpPr>
          <p:spPr>
            <a:xfrm>
              <a:off x="539640" y="4437000"/>
              <a:ext cx="8280360" cy="1079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5"/>
            <p:cNvSpPr/>
            <p:nvPr/>
          </p:nvSpPr>
          <p:spPr>
            <a:xfrm>
              <a:off x="395280" y="4292640"/>
              <a:ext cx="849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it-IT" sz="2400" spc="-1" strike="noStrike">
                  <a:solidFill>
                    <a:srgbClr val="ffffff"/>
                  </a:solidFill>
                  <a:latin typeface="Arial"/>
                </a:rPr>
                <a:t>Then web 2.0 and social software came providing greater support for innov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6" name="Picture 9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rcRect l="17723" t="25523" r="14948" b="13416"/>
          <a:stretch/>
        </p:blipFill>
        <p:spPr>
          <a:xfrm>
            <a:off x="468360" y="863640"/>
            <a:ext cx="8209080" cy="4653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2775240" y="5950080"/>
            <a:ext cx="332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teve Dale Director Semant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-24120"/>
            <a:ext cx="88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cial software provide the infrastructure fo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rcRect l="28933" t="18896" r="26188" b="35760"/>
          <a:stretch/>
        </p:blipFill>
        <p:spPr>
          <a:xfrm>
            <a:off x="2484360" y="1773360"/>
            <a:ext cx="4464000" cy="2817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164360" y="1413000"/>
            <a:ext cx="1800360" cy="1011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2952720" cy="803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5"/>
          <a:stretch/>
        </p:blipFill>
        <p:spPr>
          <a:xfrm>
            <a:off x="755640" y="1341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6"/>
          <a:stretch/>
        </p:blipFill>
        <p:spPr>
          <a:xfrm>
            <a:off x="0" y="3500280"/>
            <a:ext cx="2376360" cy="941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"/>
          <p:cNvPicPr/>
          <p:nvPr/>
        </p:nvPicPr>
        <p:blipFill>
          <a:blip r:embed="rId7"/>
          <a:stretch/>
        </p:blipFill>
        <p:spPr>
          <a:xfrm>
            <a:off x="7451640" y="263700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3"/>
          <p:cNvSpPr/>
          <p:nvPr/>
        </p:nvSpPr>
        <p:spPr>
          <a:xfrm>
            <a:off x="0" y="188640"/>
            <a:ext cx="88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cial software provide the infrastructure for innovation in ENG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4" descr=""/>
          <p:cNvPicPr/>
          <p:nvPr/>
        </p:nvPicPr>
        <p:blipFill>
          <a:blip r:embed="rId8"/>
          <a:srcRect l="18907" t="18896" r="66916" b="71647"/>
          <a:stretch/>
        </p:blipFill>
        <p:spPr>
          <a:xfrm>
            <a:off x="1403280" y="4797360"/>
            <a:ext cx="1728720" cy="72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"/>
          <p:cNvPicPr/>
          <p:nvPr/>
        </p:nvPicPr>
        <p:blipFill>
          <a:blip r:embed="rId9"/>
          <a:srcRect l="16551" t="17960" r="66916" b="74482"/>
          <a:stretch/>
        </p:blipFill>
        <p:spPr>
          <a:xfrm>
            <a:off x="2771640" y="5424480"/>
            <a:ext cx="2592360" cy="74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in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79280" y="758880"/>
            <a:ext cx="887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avioural change: thanks to the easiness of the partecipating tools  every member of the CoP partecipates in the creation of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tion of the digital div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inued and growing enthusiasm for collaboratio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y self-organising network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476360" y="9795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on between students supports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60360" y="2249640"/>
            <a:ext cx="770436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1% students study both on books and on web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nly 41% of them use only books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IE Research, 2010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68360" y="907920"/>
            <a:ext cx="8064360" cy="93672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044720" y="2133720"/>
            <a:ext cx="7488000" cy="20872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on’t forget that our customers are the studen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79280" y="4365720"/>
            <a:ext cx="86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are no more passive but active protagonists of the creation of content to be shared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ools like Blog, Wikis, Podcast, RSS are commonly u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6227640" cy="54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5110200" y="1413000"/>
            <a:ext cx="403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Italy, ENGIM manag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 Training Cent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one Study Centre. It has 4 operational centres in Piedmont which offer training and guidance services in the fields of industry and craftwork, the service industry and ICT, catering/bar and health care. ENGIM has  in our centre only  around 50 employees full time and around 700 learner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nd the train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95280" y="765000"/>
            <a:ext cx="84978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trainers need to change their role from “dispenser of information” to “generator of knowledge”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oung students are bewildered when they come in a typical environment of the XIX century that still characterizes the educational establishment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arning can benefit from sharing of content and free access to information, typical of the new frontiers of Web 2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biggest challenge, for trainers, is to interact with th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gital generation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7800" y="115560"/>
            <a:ext cx="88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Which tools to foster partecipation between stud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64072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093080" y="1052640"/>
            <a:ext cx="1800000" cy="1011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5724360" y="4581360"/>
            <a:ext cx="2953080" cy="803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"/>
          <p:cNvSpPr/>
          <p:nvPr/>
        </p:nvSpPr>
        <p:spPr>
          <a:xfrm>
            <a:off x="0" y="188640"/>
            <a:ext cx="88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cial software provide the infrastructure also for supporting learning in ENG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5"/>
          <a:srcRect l="16551" t="17960" r="66916" b="74482"/>
          <a:stretch/>
        </p:blipFill>
        <p:spPr>
          <a:xfrm>
            <a:off x="611280" y="4508640"/>
            <a:ext cx="2592360" cy="741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"/>
          <p:cNvPicPr/>
          <p:nvPr/>
        </p:nvPicPr>
        <p:blipFill>
          <a:blip r:embed="rId6"/>
          <a:srcRect l="0" t="17195" r="1299" b="15542"/>
          <a:stretch/>
        </p:blipFill>
        <p:spPr>
          <a:xfrm>
            <a:off x="2050920" y="1916280"/>
            <a:ext cx="5256360" cy="22381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211" name="Picture 14" descr=""/>
          <p:cNvPicPr/>
          <p:nvPr/>
        </p:nvPicPr>
        <p:blipFill>
          <a:blip r:embed="rId7"/>
          <a:srcRect l="0" t="35067" r="0" b="29827"/>
          <a:stretch/>
        </p:blipFill>
        <p:spPr>
          <a:xfrm>
            <a:off x="3203640" y="5373720"/>
            <a:ext cx="2467080" cy="64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in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771640" y="1197000"/>
            <a:ext cx="3675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ill to be confirmed bu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simpson-gif-animate-03-homer-1"/>
          <p:cNvPicPr/>
          <p:nvPr/>
        </p:nvPicPr>
        <p:blipFill>
          <a:blip r:embed="rId2"/>
          <a:stretch/>
        </p:blipFill>
        <p:spPr>
          <a:xfrm>
            <a:off x="3203640" y="1701720"/>
            <a:ext cx="2840040" cy="388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9"/>
          <p:cNvSpPr/>
          <p:nvPr/>
        </p:nvSpPr>
        <p:spPr>
          <a:xfrm>
            <a:off x="614520" y="2924280"/>
            <a:ext cx="239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e are still a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5867280" y="2924280"/>
            <a:ext cx="3276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d in good healt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28520" y="188280"/>
            <a:ext cx="88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ank you for the at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89600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3851280" y="1008000"/>
            <a:ext cx="1641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2124000" y="5397480"/>
            <a:ext cx="50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 u="sng">
                <a:solidFill>
                  <a:srgbClr val="3333cc"/>
                </a:solidFill>
                <a:uFillTx/>
                <a:latin typeface="Arial"/>
              </a:rPr>
              <a:t>francesca.carmagnola@engim.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5280" y="260280"/>
            <a:ext cx="835344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NGIM TOR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courses for young people &amp; adults in these field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Development  and Projec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and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ring and Food sector (kitche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3600360"/>
            <a:ext cx="558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EU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: Sustainable mo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tvig: Language for 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onardo: Training for S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8360" y="1197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Our challenge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reating partecipation and improving collaboration and knowledge exchange between co-workers and between stu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71640" y="379440"/>
            <a:ext cx="75610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is is what we do. But how we d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68360" y="1197000"/>
            <a:ext cx="8064360" cy="122400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0" y="3789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etween co-workers fosters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840200" y="4365720"/>
            <a:ext cx="43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etween students supports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279960" y="2637000"/>
            <a:ext cx="266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 flipH="1">
            <a:off x="3203280" y="2997360"/>
            <a:ext cx="1152360" cy="7920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3280" y="2997360"/>
            <a:ext cx="1368720" cy="12236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05080" y="333360"/>
            <a:ext cx="64800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rtecipation between co-workers fosters inno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tion as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between co-wor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4360" y="2349360"/>
            <a:ext cx="770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aboration is a process defined by the recursive interaction of knowledge and mutual learning between two or more people who are working together, in an intellectual endeavor, toward a common goal which is typically creative in nat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Wikipedia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68360" y="404640"/>
            <a:ext cx="8064360" cy="93672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4284720" y="134136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971640" y="2565360"/>
            <a:ext cx="7488000" cy="2808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093080" y="58705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84360" y="54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often associated with ‘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amwor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128772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main idea of collaboratio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 of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working togeth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haring of planning, making decisions, solving problems, setting goals, assuming responsibility, working together cooperatively, communicating, and coordinating openly (Baggs &amp; Schmitt, 1988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843280" y="3883320"/>
            <a:ext cx="424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llaborative Process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</a:rPr>
              <a:t>Team Cre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dea Gener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cision-Mak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ork or Produ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627280" y="3645000"/>
            <a:ext cx="3816360" cy="230508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68360" y="404640"/>
            <a:ext cx="8064360" cy="64800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8520" y="-179640"/>
            <a:ext cx="883620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“proper” team should be made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mall numbers of people - &lt; 12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lementary skills in group memb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on purposes for work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formance goals agreed up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d working approach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tual accountability amongst all memb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Katzenbach and Smit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714920" y="37814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ow to improve the collaboration in a team to achieve better performance resul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635280" y="3789360"/>
            <a:ext cx="4537080" cy="20876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778200" y="59151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rcRect l="28346" t="45023" r="63388" b="28523"/>
          <a:stretch/>
        </p:blipFill>
        <p:spPr>
          <a:xfrm>
            <a:off x="1978200" y="3754440"/>
            <a:ext cx="1296720" cy="25923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3"/>
          <p:cNvSpPr/>
          <p:nvPr/>
        </p:nvSpPr>
        <p:spPr>
          <a:xfrm>
            <a:off x="4570560" y="3825720"/>
            <a:ext cx="2881080" cy="1513080"/>
          </a:xfrm>
          <a:prstGeom prst="wedgeRoundRectCallout">
            <a:avLst>
              <a:gd name="adj1" fmla="val -100851"/>
              <a:gd name="adj2" fmla="val -25129"/>
              <a:gd name="adj3" fmla="val 16667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16362" t="59275" r="66062" b="17606"/>
          <a:stretch/>
        </p:blipFill>
        <p:spPr>
          <a:xfrm>
            <a:off x="1835280" y="4579920"/>
            <a:ext cx="2016000" cy="16574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395280" y="1701720"/>
            <a:ext cx="3457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mmand and contr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012000" y="1701720"/>
            <a:ext cx="2449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nsensus-dr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3490920" y="1701720"/>
            <a:ext cx="2592360" cy="360360"/>
          </a:xfrm>
          <a:prstGeom prst="rightArrow">
            <a:avLst>
              <a:gd name="adj1" fmla="val 50000"/>
              <a:gd name="adj2" fmla="val 179845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38200" y="2852640"/>
            <a:ext cx="3457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mal and clo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154560" y="2852640"/>
            <a:ext cx="24498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formal and 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3564000" y="2854440"/>
            <a:ext cx="2520720" cy="360360"/>
          </a:xfrm>
          <a:prstGeom prst="rightArrow">
            <a:avLst>
              <a:gd name="adj1" fmla="val 50000"/>
              <a:gd name="adj2" fmla="val 174875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79280" y="3933720"/>
            <a:ext cx="38163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ear of making mistak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6191280" y="3933720"/>
            <a:ext cx="3060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xplore and evalu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3564000" y="3933720"/>
            <a:ext cx="2543040" cy="360360"/>
          </a:xfrm>
          <a:prstGeom prst="rightArrow">
            <a:avLst>
              <a:gd name="adj1" fmla="val 50000"/>
              <a:gd name="adj2" fmla="val 176424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95280" y="1558800"/>
            <a:ext cx="2952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50920" y="907920"/>
            <a:ext cx="8713800" cy="367344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79280" y="201600"/>
            <a:ext cx="876780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mproving collaboration requires a cultur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2"/>
          <a:srcRect l="45236" t="58879" r="30900" b="17606"/>
          <a:stretch/>
        </p:blipFill>
        <p:spPr>
          <a:xfrm>
            <a:off x="5724360" y="4862520"/>
            <a:ext cx="2232360" cy="1374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9"/>
          <p:cNvSpPr/>
          <p:nvPr/>
        </p:nvSpPr>
        <p:spPr>
          <a:xfrm>
            <a:off x="468360" y="1125360"/>
            <a:ext cx="3457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OLD STYLE CUL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35640" y="1171440"/>
            <a:ext cx="3457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EW STYLE CUL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093080" y="59500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566520" y="6453360"/>
            <a:ext cx="25506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ncesca Carmagn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79280" y="201600"/>
            <a:ext cx="876780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 well as a behaviour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rcRect l="28346" t="45023" r="63388" b="28523"/>
          <a:stretch/>
        </p:blipFill>
        <p:spPr>
          <a:xfrm>
            <a:off x="2484360" y="2268360"/>
            <a:ext cx="144000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rcRect l="28346" t="45023" r="63388" b="28523"/>
          <a:stretch/>
        </p:blipFill>
        <p:spPr>
          <a:xfrm>
            <a:off x="5437080" y="2278080"/>
            <a:ext cx="144000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2174760" y="2508120"/>
            <a:ext cx="18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557440" y="176544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ld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292720" y="178272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w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179280" y="1125360"/>
            <a:ext cx="2160720" cy="1584360"/>
          </a:xfrm>
          <a:prstGeom prst="wedgeRoundRectCallout">
            <a:avLst>
              <a:gd name="adj1" fmla="val 75569"/>
              <a:gd name="adj2" fmla="val 54509"/>
              <a:gd name="adj3" fmla="val 16667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31840" y="1268280"/>
            <a:ext cx="21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interact with the others when I have the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247840" y="5100480"/>
            <a:ext cx="18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79280" y="3716280"/>
            <a:ext cx="2160720" cy="934920"/>
          </a:xfrm>
          <a:prstGeom prst="wedgeRoundRectCallout">
            <a:avLst>
              <a:gd name="adj1" fmla="val 67268"/>
              <a:gd name="adj2" fmla="val -134208"/>
              <a:gd name="adj3" fmla="val 16667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231840" y="3852720"/>
            <a:ext cx="21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use only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3995640" y="3141720"/>
            <a:ext cx="1513080" cy="57456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8924760" y="2589120"/>
            <a:ext cx="18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6912000" y="1197000"/>
            <a:ext cx="2160720" cy="1584360"/>
          </a:xfrm>
          <a:prstGeom prst="wedgeRoundRectCallout">
            <a:avLst>
              <a:gd name="adj1" fmla="val -67412"/>
              <a:gd name="adj2" fmla="val 50703"/>
              <a:gd name="adj3" fmla="val 16667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908760" y="1341360"/>
            <a:ext cx="21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interact with the others ofte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elf-initi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0"/>
          <p:cNvSpPr/>
          <p:nvPr/>
        </p:nvSpPr>
        <p:spPr>
          <a:xfrm>
            <a:off x="6912000" y="3789360"/>
            <a:ext cx="2160720" cy="934920"/>
          </a:xfrm>
          <a:prstGeom prst="wedgeRoundRectCallout">
            <a:avLst>
              <a:gd name="adj1" fmla="val -54847"/>
              <a:gd name="adj2" fmla="val -126231"/>
              <a:gd name="adj3" fmla="val 16667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981840" y="3933720"/>
            <a:ext cx="21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 use several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ie@mfg.de</cp:lastModifiedBy>
  <dcterms:modified xsi:type="dcterms:W3CDTF">2011-11-22T11:03:03Z</dcterms:modified>
  <cp:revision>68</cp:revision>
  <dc:subject/>
  <dc:title>Moodle</dc:title>
</cp:coreProperties>
</file>